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2918400" cy="43891200"/>
  <p:notesSz cx="32100838" cy="4221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59C1-A397-44D9-B68F-D0255FEF1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1757520"/>
            <a:ext cx="29627640" cy="731520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ctr">
            <a:noAutofit/>
          </a:bodyPr>
          <a:p>
            <a:pPr indent="0" algn="ctr">
              <a:buNone/>
              <a:tabLst>
                <a:tab algn="l" pos="0"/>
                <a:tab algn="l" pos="5851440"/>
              </a:tabLst>
            </a:pPr>
            <a:endParaRPr b="0" lang="en-US" sz="28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10240920"/>
            <a:ext cx="29627640" cy="1381644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/>
          </a:bodyPr>
          <a:p>
            <a:pPr indent="0">
              <a:spcBef>
                <a:spcPts val="5125"/>
              </a:spcBef>
              <a:buNone/>
              <a:tabLst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25370280"/>
            <a:ext cx="29627640" cy="1381644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/>
          </a:bodyPr>
          <a:p>
            <a:pPr indent="0">
              <a:spcBef>
                <a:spcPts val="5125"/>
              </a:spcBef>
              <a:buNone/>
              <a:tabLst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0E08-E8F5-436A-B499-B51143DB6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1757520"/>
            <a:ext cx="29627640" cy="731520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ctr">
            <a:noAutofit/>
          </a:bodyPr>
          <a:p>
            <a:pPr indent="0" algn="ctr">
              <a:buNone/>
              <a:tabLst>
                <a:tab algn="l" pos="0"/>
                <a:tab algn="l" pos="5851440"/>
              </a:tabLst>
            </a:pPr>
            <a:endParaRPr b="0" lang="en-US" sz="28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10240920"/>
            <a:ext cx="14457960" cy="1381644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/>
          </a:bodyPr>
          <a:p>
            <a:pPr indent="0">
              <a:spcBef>
                <a:spcPts val="5125"/>
              </a:spcBef>
              <a:buNone/>
              <a:tabLst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7120" y="10240920"/>
            <a:ext cx="14457960" cy="1381644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/>
          </a:bodyPr>
          <a:p>
            <a:pPr indent="0">
              <a:spcBef>
                <a:spcPts val="5125"/>
              </a:spcBef>
              <a:buNone/>
              <a:tabLst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25370280"/>
            <a:ext cx="14457960" cy="1381644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/>
          </a:bodyPr>
          <a:p>
            <a:pPr indent="0">
              <a:spcBef>
                <a:spcPts val="5125"/>
              </a:spcBef>
              <a:buNone/>
              <a:tabLst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7120" y="25370280"/>
            <a:ext cx="14457960" cy="1381644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/>
          </a:bodyPr>
          <a:p>
            <a:pPr indent="0">
              <a:spcBef>
                <a:spcPts val="5125"/>
              </a:spcBef>
              <a:buNone/>
              <a:tabLst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5F40-E9DC-4780-AF73-516D12AB2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1757520"/>
            <a:ext cx="29627640" cy="731520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ctr">
            <a:noAutofit/>
          </a:bodyPr>
          <a:p>
            <a:pPr indent="0" algn="ctr">
              <a:buNone/>
              <a:tabLst>
                <a:tab algn="l" pos="0"/>
                <a:tab algn="l" pos="5851440"/>
              </a:tabLst>
            </a:pPr>
            <a:endParaRPr b="0" lang="en-US" sz="28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10240920"/>
            <a:ext cx="9540000" cy="1381644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/>
          </a:bodyPr>
          <a:p>
            <a:pPr indent="0">
              <a:spcBef>
                <a:spcPts val="5125"/>
              </a:spcBef>
              <a:buNone/>
              <a:tabLst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3280" y="10240920"/>
            <a:ext cx="9540000" cy="1381644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/>
          </a:bodyPr>
          <a:p>
            <a:pPr indent="0">
              <a:spcBef>
                <a:spcPts val="5125"/>
              </a:spcBef>
              <a:buNone/>
              <a:tabLst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80640" y="10240920"/>
            <a:ext cx="9540000" cy="1381644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/>
          </a:bodyPr>
          <a:p>
            <a:pPr indent="0">
              <a:spcBef>
                <a:spcPts val="5125"/>
              </a:spcBef>
              <a:buNone/>
              <a:tabLst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25370280"/>
            <a:ext cx="9540000" cy="1381644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/>
          </a:bodyPr>
          <a:p>
            <a:pPr indent="0">
              <a:spcBef>
                <a:spcPts val="5125"/>
              </a:spcBef>
              <a:buNone/>
              <a:tabLst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3280" y="25370280"/>
            <a:ext cx="9540000" cy="1381644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/>
          </a:bodyPr>
          <a:p>
            <a:pPr indent="0">
              <a:spcBef>
                <a:spcPts val="5125"/>
              </a:spcBef>
              <a:buNone/>
              <a:tabLst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80640" y="25370280"/>
            <a:ext cx="9540000" cy="1381644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/>
          </a:bodyPr>
          <a:p>
            <a:pPr indent="0">
              <a:spcBef>
                <a:spcPts val="5125"/>
              </a:spcBef>
              <a:buNone/>
              <a:tabLst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4740-B32C-46B6-92E1-FF3FF6751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1757520"/>
            <a:ext cx="29627640" cy="731520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ctr">
            <a:noAutofit/>
          </a:bodyPr>
          <a:p>
            <a:pPr indent="0" algn="ctr">
              <a:buNone/>
              <a:tabLst>
                <a:tab algn="l" pos="0"/>
                <a:tab algn="l" pos="5851440"/>
              </a:tabLst>
            </a:pPr>
            <a:endParaRPr b="0" lang="en-US" sz="28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10240920"/>
            <a:ext cx="29627640" cy="289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125"/>
              </a:spcBef>
              <a:buNone/>
              <a:tabLst>
                <a:tab algn="l" pos="0"/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9931-D4A0-49A2-A9C7-1DE55B3F9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1757520"/>
            <a:ext cx="29627640" cy="731520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ctr">
            <a:noAutofit/>
          </a:bodyPr>
          <a:p>
            <a:pPr indent="0" algn="ctr">
              <a:buNone/>
              <a:tabLst>
                <a:tab algn="l" pos="0"/>
                <a:tab algn="l" pos="5851440"/>
              </a:tabLst>
            </a:pPr>
            <a:endParaRPr b="0" lang="en-US" sz="28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10240920"/>
            <a:ext cx="29627640" cy="2896560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/>
          </a:bodyPr>
          <a:p>
            <a:pPr indent="0">
              <a:spcBef>
                <a:spcPts val="5125"/>
              </a:spcBef>
              <a:buNone/>
              <a:tabLst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9033-BA24-492B-A23C-88D2777DF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1757520"/>
            <a:ext cx="29627640" cy="731520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ctr">
            <a:noAutofit/>
          </a:bodyPr>
          <a:p>
            <a:pPr indent="0" algn="ctr">
              <a:buNone/>
              <a:tabLst>
                <a:tab algn="l" pos="0"/>
                <a:tab algn="l" pos="5851440"/>
              </a:tabLst>
            </a:pPr>
            <a:endParaRPr b="0" lang="en-US" sz="28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10240920"/>
            <a:ext cx="14457960" cy="2896560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/>
          </a:bodyPr>
          <a:p>
            <a:pPr indent="0">
              <a:spcBef>
                <a:spcPts val="5125"/>
              </a:spcBef>
              <a:buNone/>
              <a:tabLst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7120" y="10240920"/>
            <a:ext cx="14457960" cy="2896560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/>
          </a:bodyPr>
          <a:p>
            <a:pPr indent="0">
              <a:spcBef>
                <a:spcPts val="5125"/>
              </a:spcBef>
              <a:buNone/>
              <a:tabLst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3A86-58C7-4428-8E87-D149E55CE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1757520"/>
            <a:ext cx="29627640" cy="731520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ctr">
            <a:noAutofit/>
          </a:bodyPr>
          <a:p>
            <a:pPr indent="0" algn="ctr">
              <a:buNone/>
              <a:tabLst>
                <a:tab algn="l" pos="0"/>
                <a:tab algn="l" pos="5851440"/>
              </a:tabLst>
            </a:pPr>
            <a:endParaRPr b="0" lang="en-US" sz="28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2D5F-5811-4BEA-ABAC-AA4B43921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1757520"/>
            <a:ext cx="29627640" cy="339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125"/>
              </a:spcBef>
              <a:tabLst>
                <a:tab algn="l" pos="0"/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C132-BF94-4494-9FE9-1E43EA78F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1757520"/>
            <a:ext cx="29627640" cy="731520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ctr">
            <a:noAutofit/>
          </a:bodyPr>
          <a:p>
            <a:pPr indent="0" algn="ctr">
              <a:buNone/>
              <a:tabLst>
                <a:tab algn="l" pos="0"/>
                <a:tab algn="l" pos="5851440"/>
              </a:tabLst>
            </a:pPr>
            <a:endParaRPr b="0" lang="en-US" sz="28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10240920"/>
            <a:ext cx="14457960" cy="1381644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/>
          </a:bodyPr>
          <a:p>
            <a:pPr indent="0">
              <a:spcBef>
                <a:spcPts val="5125"/>
              </a:spcBef>
              <a:buNone/>
              <a:tabLst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7120" y="10240920"/>
            <a:ext cx="14457960" cy="2896560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/>
          </a:bodyPr>
          <a:p>
            <a:pPr indent="0">
              <a:spcBef>
                <a:spcPts val="5125"/>
              </a:spcBef>
              <a:buNone/>
              <a:tabLst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25370280"/>
            <a:ext cx="14457960" cy="1381644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/>
          </a:bodyPr>
          <a:p>
            <a:pPr indent="0">
              <a:spcBef>
                <a:spcPts val="5125"/>
              </a:spcBef>
              <a:buNone/>
              <a:tabLst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12CF-4444-4302-9089-4D2D52455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1757520"/>
            <a:ext cx="29627640" cy="731520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ctr">
            <a:noAutofit/>
          </a:bodyPr>
          <a:p>
            <a:pPr indent="0" algn="ctr">
              <a:buNone/>
              <a:tabLst>
                <a:tab algn="l" pos="0"/>
                <a:tab algn="l" pos="5851440"/>
              </a:tabLst>
            </a:pPr>
            <a:endParaRPr b="0" lang="en-US" sz="28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10240920"/>
            <a:ext cx="14457960" cy="2896560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/>
          </a:bodyPr>
          <a:p>
            <a:pPr indent="0">
              <a:spcBef>
                <a:spcPts val="5125"/>
              </a:spcBef>
              <a:buNone/>
              <a:tabLst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7120" y="10240920"/>
            <a:ext cx="14457960" cy="1381644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/>
          </a:bodyPr>
          <a:p>
            <a:pPr indent="0">
              <a:spcBef>
                <a:spcPts val="5125"/>
              </a:spcBef>
              <a:buNone/>
              <a:tabLst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7120" y="25370280"/>
            <a:ext cx="14457960" cy="1381644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/>
          </a:bodyPr>
          <a:p>
            <a:pPr indent="0">
              <a:spcBef>
                <a:spcPts val="5125"/>
              </a:spcBef>
              <a:buNone/>
              <a:tabLst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92A8-CB5C-44BA-9E38-382A09231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1757520"/>
            <a:ext cx="29627640" cy="731520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ctr">
            <a:noAutofit/>
          </a:bodyPr>
          <a:p>
            <a:pPr indent="0" algn="ctr">
              <a:buNone/>
              <a:tabLst>
                <a:tab algn="l" pos="0"/>
                <a:tab algn="l" pos="5851440"/>
              </a:tabLst>
            </a:pPr>
            <a:endParaRPr b="0" lang="en-US" sz="28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10240920"/>
            <a:ext cx="14457960" cy="1381644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/>
          </a:bodyPr>
          <a:p>
            <a:pPr indent="0">
              <a:spcBef>
                <a:spcPts val="5125"/>
              </a:spcBef>
              <a:buNone/>
              <a:tabLst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7120" y="10240920"/>
            <a:ext cx="14457960" cy="1381644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/>
          </a:bodyPr>
          <a:p>
            <a:pPr indent="0">
              <a:spcBef>
                <a:spcPts val="5125"/>
              </a:spcBef>
              <a:buNone/>
              <a:tabLst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25370280"/>
            <a:ext cx="29627640" cy="1381644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/>
          </a:bodyPr>
          <a:p>
            <a:pPr indent="0">
              <a:spcBef>
                <a:spcPts val="5125"/>
              </a:spcBef>
              <a:buNone/>
              <a:tabLst>
                <a:tab algn="l" pos="5851440"/>
              </a:tabLst>
            </a:pP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DD5A-A297-434D-B185-33C26561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45920" y="1757520"/>
            <a:ext cx="29627640" cy="731520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ctr">
            <a:noAutofit/>
          </a:bodyPr>
          <a:p>
            <a:pPr indent="0" algn="ctr">
              <a:buNone/>
              <a:tabLst>
                <a:tab algn="l" pos="0"/>
                <a:tab algn="l" pos="5851440"/>
              </a:tabLst>
            </a:pPr>
            <a:r>
              <a:rPr b="0" lang="en-US" sz="28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45920" y="10240920"/>
            <a:ext cx="29627640" cy="2896560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t">
            <a:normAutofit fontScale="86000"/>
          </a:bodyPr>
          <a:p>
            <a:pPr marL="1886400" indent="-1886400">
              <a:spcBef>
                <a:spcPts val="5125"/>
              </a:spcBef>
              <a:buClr>
                <a:srgbClr val="000000"/>
              </a:buClr>
              <a:buFont typeface="Arial"/>
              <a:buChar char="•"/>
              <a:tabLst>
                <a:tab algn="l" pos="5851440"/>
              </a:tabLst>
            </a:pPr>
            <a:r>
              <a:rPr b="0" lang="en-US" sz="20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  <a:p>
            <a:pPr lvl="1" marL="4088880" indent="-1571040">
              <a:spcBef>
                <a:spcPts val="5125"/>
              </a:spcBef>
              <a:buClr>
                <a:srgbClr val="000000"/>
              </a:buClr>
              <a:buFont typeface="Arial"/>
              <a:buChar char="–"/>
              <a:tabLst>
                <a:tab algn="l" pos="5851440"/>
              </a:tabLst>
            </a:pPr>
            <a:r>
              <a:rPr b="0" lang="en-US" sz="20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  <a:p>
            <a:pPr lvl="2" marL="6289560" indent="-1257480">
              <a:spcBef>
                <a:spcPts val="5125"/>
              </a:spcBef>
              <a:buClr>
                <a:srgbClr val="000000"/>
              </a:buClr>
              <a:buFont typeface="Arial"/>
              <a:buChar char="•"/>
              <a:tabLst>
                <a:tab algn="l" pos="5851440"/>
              </a:tabLst>
            </a:pPr>
            <a:r>
              <a:rPr b="0" lang="en-US" sz="20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  <a:p>
            <a:pPr lvl="3" marL="8807040" indent="-1257120">
              <a:spcBef>
                <a:spcPts val="5125"/>
              </a:spcBef>
              <a:buClr>
                <a:srgbClr val="000000"/>
              </a:buClr>
              <a:buFont typeface="Arial"/>
              <a:buChar char="–"/>
              <a:tabLst>
                <a:tab algn="l" pos="5851440"/>
              </a:tabLst>
            </a:pPr>
            <a:r>
              <a:rPr b="0" lang="en-US" sz="20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  <a:p>
            <a:pPr lvl="4" marL="11323080" indent="-1257120">
              <a:spcBef>
                <a:spcPts val="5125"/>
              </a:spcBef>
              <a:buClr>
                <a:srgbClr val="000000"/>
              </a:buClr>
              <a:buFont typeface="Arial"/>
              <a:buChar char="»"/>
              <a:tabLst>
                <a:tab algn="l" pos="5851440"/>
              </a:tabLst>
            </a:pPr>
            <a:r>
              <a:rPr b="0" lang="en-US" sz="20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  <a:p>
            <a:pPr lvl="5" marL="11323080" indent="-1257120">
              <a:spcBef>
                <a:spcPts val="5125"/>
              </a:spcBef>
              <a:buClr>
                <a:srgbClr val="000000"/>
              </a:buClr>
              <a:buFont typeface="Arial"/>
              <a:buChar char="»"/>
              <a:tabLst>
                <a:tab algn="l" pos="5851440"/>
              </a:tabLst>
            </a:pPr>
            <a:r>
              <a:rPr b="0" lang="en-US" sz="20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  <a:p>
            <a:pPr lvl="6" marL="11323080" indent="-1257120">
              <a:spcBef>
                <a:spcPts val="5125"/>
              </a:spcBef>
              <a:buClr>
                <a:srgbClr val="000000"/>
              </a:buClr>
              <a:buFont typeface="Arial"/>
              <a:buChar char="»"/>
              <a:tabLst>
                <a:tab algn="l" pos="5851440"/>
              </a:tabLst>
            </a:pPr>
            <a:r>
              <a:rPr b="0" lang="en-US" sz="20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45920" y="40679280"/>
            <a:ext cx="7682040" cy="233676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851440"/>
              </a:tabLst>
              <a:defRPr b="0" lang="en-US" sz="7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851440"/>
              </a:tabLst>
            </a:pPr>
            <a:r>
              <a:rPr b="0" lang="en-US" sz="77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7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247120" y="40679280"/>
            <a:ext cx="10425240" cy="233676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ctr">
            <a:noAutofit/>
          </a:bodyPr>
          <a:p>
            <a:pPr indent="0">
              <a:buNone/>
              <a:tabLst>
                <a:tab algn="l" pos="0"/>
                <a:tab algn="l" pos="585144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3591520" y="40679280"/>
            <a:ext cx="7682040" cy="2336760"/>
          </a:xfrm>
          <a:prstGeom prst="rect">
            <a:avLst/>
          </a:prstGeom>
          <a:noFill/>
          <a:ln w="0">
            <a:noFill/>
          </a:ln>
        </p:spPr>
        <p:txBody>
          <a:bodyPr lIns="585360" rIns="585360" tIns="292680" bIns="2926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5851440"/>
              </a:tabLst>
              <a:defRPr b="0" lang="en-US" sz="7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5851440"/>
              </a:tabLst>
            </a:pPr>
            <a:fld id="{982F216B-597E-4866-B29E-6417F6085697}" type="slidenum">
              <a:rPr b="0" lang="en-US" sz="77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7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P:\Malek\ER---RENDU\gris copy.jpg"/>
          <p:cNvPicPr/>
          <p:nvPr/>
        </p:nvPicPr>
        <p:blipFill>
          <a:blip r:embed="rId1"/>
          <a:stretch/>
        </p:blipFill>
        <p:spPr>
          <a:xfrm>
            <a:off x="0" y="1295280"/>
            <a:ext cx="32918400" cy="52578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"/>
          <p:cNvPicPr/>
          <p:nvPr/>
        </p:nvPicPr>
        <p:blipFill>
          <a:blip r:embed="rId2"/>
          <a:srcRect l="18942" t="17968" r="68125" b="75005"/>
          <a:stretch/>
        </p:blipFill>
        <p:spPr>
          <a:xfrm>
            <a:off x="25146000" y="1371600"/>
            <a:ext cx="5145120" cy="12193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"/>
          <p:cNvPicPr/>
          <p:nvPr/>
        </p:nvPicPr>
        <p:blipFill>
          <a:blip r:embed="rId3"/>
          <a:stretch/>
        </p:blipFill>
        <p:spPr>
          <a:xfrm>
            <a:off x="30251520" y="1371600"/>
            <a:ext cx="2666880" cy="1219320"/>
          </a:xfrm>
          <a:prstGeom prst="rect">
            <a:avLst/>
          </a:prstGeom>
          <a:ln w="0">
            <a:noFill/>
          </a:ln>
        </p:spPr>
      </p:pic>
      <p:sp>
        <p:nvSpPr>
          <p:cNvPr id="44" name="TextBox 23"/>
          <p:cNvSpPr/>
          <p:nvPr/>
        </p:nvSpPr>
        <p:spPr>
          <a:xfrm>
            <a:off x="1371240" y="9296280"/>
            <a:ext cx="7320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1. Design Factor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25"/>
          <p:cNvSpPr/>
          <p:nvPr/>
        </p:nvSpPr>
        <p:spPr>
          <a:xfrm>
            <a:off x="10361160" y="38862000"/>
            <a:ext cx="1039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3. Future Improvement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26"/>
          <p:cNvSpPr/>
          <p:nvPr/>
        </p:nvSpPr>
        <p:spPr>
          <a:xfrm>
            <a:off x="1369080" y="38938320"/>
            <a:ext cx="8503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Acknowledgement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29"/>
          <p:cNvSpPr/>
          <p:nvPr/>
        </p:nvSpPr>
        <p:spPr>
          <a:xfrm>
            <a:off x="1295280" y="40309920"/>
            <a:ext cx="868680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851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Our team would like to thank the following people for their guidance and expertise: Jeremy Ackerman, David Cowan, Ellen Yi-Luen Do, Craig Zimring, Marvina Williams, and Marilyn Margolis.  This project was funded through Perkins &amp; Will and NC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21107520" y="31775400"/>
          <a:ext cx="9219960" cy="4394160"/>
        </p:xfrm>
        <a:graphic>
          <a:graphicData uri="http://schemas.openxmlformats.org/drawingml/2006/table">
            <a:tbl>
              <a:tblPr/>
              <a:tblGrid>
                <a:gridCol w="2666880"/>
                <a:gridCol w="1295280"/>
                <a:gridCol w="1752840"/>
                <a:gridCol w="1523880"/>
                <a:gridCol w="1981080"/>
              </a:tblGrid>
              <a:tr h="439560">
                <a:tc gridSpan="2">
                  <a:txBody>
                    <a:bodyPr lIns="7200" rIns="72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 ATERIALS AND SUPPL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439560"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GH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ant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ppli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od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.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.9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K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N Fluoresc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.9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K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1.9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X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an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pplier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ious Par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7.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me Depo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7200" rIns="72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7200" rIns="72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nd 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9.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  <p:grpSp>
        <p:nvGrpSpPr>
          <p:cNvPr id="49" name="Group 325"/>
          <p:cNvGrpSpPr/>
          <p:nvPr/>
        </p:nvGrpSpPr>
        <p:grpSpPr>
          <a:xfrm>
            <a:off x="22327920" y="28575000"/>
            <a:ext cx="7009200" cy="1984320"/>
            <a:chOff x="22327920" y="28575000"/>
            <a:chExt cx="7009200" cy="1984320"/>
          </a:xfrm>
        </p:grpSpPr>
        <p:grpSp>
          <p:nvGrpSpPr>
            <p:cNvPr id="50" name="Group 13"/>
            <p:cNvGrpSpPr/>
            <p:nvPr/>
          </p:nvGrpSpPr>
          <p:grpSpPr>
            <a:xfrm>
              <a:off x="24612480" y="28575000"/>
              <a:ext cx="851040" cy="776160"/>
              <a:chOff x="24612480" y="28575000"/>
              <a:chExt cx="851040" cy="776160"/>
            </a:xfrm>
          </p:grpSpPr>
          <p:sp>
            <p:nvSpPr>
              <p:cNvPr id="51" name="Oval 14"/>
              <p:cNvSpPr/>
              <p:nvPr/>
            </p:nvSpPr>
            <p:spPr>
              <a:xfrm>
                <a:off x="24612480" y="28575000"/>
                <a:ext cx="851040" cy="77616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Oval 15"/>
              <p:cNvSpPr/>
              <p:nvPr/>
            </p:nvSpPr>
            <p:spPr>
              <a:xfrm>
                <a:off x="24677280" y="28633680"/>
                <a:ext cx="721080" cy="6584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" name="Rounded Rectangle 446"/>
            <p:cNvSpPr/>
            <p:nvPr/>
          </p:nvSpPr>
          <p:spPr>
            <a:xfrm>
              <a:off x="24383880" y="29565720"/>
              <a:ext cx="1447920" cy="152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1440"/>
                </a:tabLst>
              </a:pP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64"/>
            <p:cNvGrpSpPr/>
            <p:nvPr/>
          </p:nvGrpSpPr>
          <p:grpSpPr>
            <a:xfrm>
              <a:off x="24307560" y="30251880"/>
              <a:ext cx="1446480" cy="133920"/>
              <a:chOff x="24307560" y="30251880"/>
              <a:chExt cx="1446480" cy="133920"/>
            </a:xfrm>
          </p:grpSpPr>
          <p:sp>
            <p:nvSpPr>
              <p:cNvPr id="55" name="Rounded Rectangle 453"/>
              <p:cNvSpPr/>
              <p:nvPr/>
            </p:nvSpPr>
            <p:spPr>
              <a:xfrm rot="5400000">
                <a:off x="24963840" y="29595600"/>
                <a:ext cx="133920" cy="1446480"/>
              </a:xfrm>
              <a:custGeom>
                <a:avLst/>
                <a:gdLst>
                  <a:gd name="textAreaLeft" fmla="*/ 6480 w 133920"/>
                  <a:gd name="textAreaRight" fmla="*/ 127440 w 133920"/>
                  <a:gd name="textAreaTop" fmla="*/ 6480 h 1446480"/>
                  <a:gd name="textAreaBottom" fmla="*/ 1440000 h 1446480"/>
                </a:gdLst>
                <a:ahLst/>
                <a:rect l="textAreaLeft" t="textAreaTop" r="textAreaRight" b="textAreaBottom"/>
                <a:pathLst>
                  <a:path w="21600" h="232736">
                    <a:moveTo>
                      <a:pt x="3600" y="0"/>
                    </a:moveTo>
                    <a:arcTo wR="3600" hR="3600" stAng="16200000" swAng="-5400000"/>
                    <a:lnTo>
                      <a:pt x="0" y="229136"/>
                    </a:lnTo>
                    <a:arcTo wR="3600" hR="3600" stAng="10800000" swAng="-5400000"/>
                    <a:lnTo>
                      <a:pt x="18000" y="23273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Oval 454"/>
              <p:cNvSpPr/>
              <p:nvPr/>
            </p:nvSpPr>
            <p:spPr>
              <a:xfrm rot="5400000">
                <a:off x="25572600" y="30282120"/>
                <a:ext cx="87120" cy="1015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Oval 67"/>
              <p:cNvSpPr/>
              <p:nvPr/>
            </p:nvSpPr>
            <p:spPr>
              <a:xfrm rot="5400000">
                <a:off x="24997680" y="30282120"/>
                <a:ext cx="87120" cy="1015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Oval 68"/>
              <p:cNvSpPr/>
              <p:nvPr/>
            </p:nvSpPr>
            <p:spPr>
              <a:xfrm rot="5400000">
                <a:off x="24693480" y="30282840"/>
                <a:ext cx="87120" cy="997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Oval 457"/>
              <p:cNvSpPr/>
              <p:nvPr/>
            </p:nvSpPr>
            <p:spPr>
              <a:xfrm rot="5400000">
                <a:off x="24421680" y="30282840"/>
                <a:ext cx="87120" cy="997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Oval 458"/>
              <p:cNvSpPr/>
              <p:nvPr/>
            </p:nvSpPr>
            <p:spPr>
              <a:xfrm rot="5400000">
                <a:off x="25296840" y="30282840"/>
                <a:ext cx="87120" cy="997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TextBox 449"/>
            <p:cNvSpPr/>
            <p:nvPr/>
          </p:nvSpPr>
          <p:spPr>
            <a:xfrm>
              <a:off x="22327920" y="28650960"/>
              <a:ext cx="1017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585144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KE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Box 450"/>
            <p:cNvSpPr/>
            <p:nvPr/>
          </p:nvSpPr>
          <p:spPr>
            <a:xfrm>
              <a:off x="26289000" y="28803600"/>
              <a:ext cx="229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585144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pot ligh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Box 451"/>
            <p:cNvSpPr/>
            <p:nvPr/>
          </p:nvSpPr>
          <p:spPr>
            <a:xfrm>
              <a:off x="26289000" y="2941344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585144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ull-spectrum ligh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Box 452"/>
            <p:cNvSpPr/>
            <p:nvPr/>
          </p:nvSpPr>
          <p:spPr>
            <a:xfrm>
              <a:off x="26212680" y="30099600"/>
              <a:ext cx="312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585144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ulti-color LED ligh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TextBox 292"/>
          <p:cNvSpPr/>
          <p:nvPr/>
        </p:nvSpPr>
        <p:spPr>
          <a:xfrm>
            <a:off x="10470960" y="10972800"/>
            <a:ext cx="8555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5144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Plan of the Lighting System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94"/>
          <p:cNvSpPr/>
          <p:nvPr/>
        </p:nvSpPr>
        <p:spPr>
          <a:xfrm>
            <a:off x="10744200" y="12268080"/>
            <a:ext cx="8685360" cy="52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8514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NCTION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51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provide lighting for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Arial"/>
              <a:buAutoNum type="arabicPeriod"/>
              <a:tabLst>
                <a:tab algn="l" pos="5851440"/>
              </a:tabLst>
            </a:pPr>
            <a:r>
              <a:rPr b="1" lang="en-US" sz="3000" spc="-1" strike="noStrike" u="sng">
                <a:solidFill>
                  <a:srgbClr val="0070c0"/>
                </a:solidFill>
                <a:uFillTx/>
                <a:latin typeface="Arial"/>
              </a:rPr>
              <a:t>Nurses &amp; doctors</a:t>
            </a:r>
            <a:r>
              <a:rPr b="1" lang="en-US" sz="3000" spc="-1" strike="noStrike">
                <a:solidFill>
                  <a:srgbClr val="0070c0"/>
                </a:solidFill>
                <a:latin typeface="Arial"/>
              </a:rPr>
              <a:t>: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ot lights provide focal, clear, and intense lights for bedside procedures that require high visual acuity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Arial"/>
              <a:buAutoNum type="arabicPeriod"/>
              <a:tabLst>
                <a:tab algn="l" pos="5851440"/>
              </a:tabLst>
            </a:pPr>
            <a:r>
              <a:rPr b="1" lang="en-US" sz="3000" spc="-1" strike="noStrike" u="sng">
                <a:solidFill>
                  <a:srgbClr val="0070c0"/>
                </a:solidFill>
                <a:uFillTx/>
                <a:latin typeface="Arial"/>
              </a:rPr>
              <a:t>Staff</a:t>
            </a:r>
            <a:r>
              <a:rPr b="1" lang="en-US" sz="3000" spc="-1" strike="noStrike">
                <a:solidFill>
                  <a:srgbClr val="0070c0"/>
                </a:solidFill>
                <a:latin typeface="Arial"/>
              </a:rPr>
              <a:t>: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ll-spectrum lights provide general diffuse lights for various clinical procedures and room mainten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Arial"/>
              <a:buAutoNum type="arabicPeriod"/>
              <a:tabLst>
                <a:tab algn="l" pos="5851440"/>
              </a:tabLst>
            </a:pPr>
            <a:r>
              <a:rPr b="1" lang="en-US" sz="3000" spc="-1" strike="noStrike" u="sng">
                <a:solidFill>
                  <a:srgbClr val="0070c0"/>
                </a:solidFill>
                <a:uFillTx/>
                <a:latin typeface="Arial"/>
              </a:rPr>
              <a:t>Patient</a:t>
            </a:r>
            <a:r>
              <a:rPr b="1" lang="en-US" sz="3000" spc="-1" strike="noStrike">
                <a:solidFill>
                  <a:srgbClr val="0070c0"/>
                </a:solidFill>
                <a:latin typeface="Arial"/>
              </a:rPr>
              <a:t>: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lti-color LED lights create a more relaxing environment and provide positive distractions while in waiting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95"/>
          <p:cNvSpPr/>
          <p:nvPr/>
        </p:nvSpPr>
        <p:spPr>
          <a:xfrm>
            <a:off x="10744200" y="17754480"/>
            <a:ext cx="8686800" cy="9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8514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SIGN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Arial"/>
              <a:buAutoNum type="arabicPeriod"/>
              <a:tabLst>
                <a:tab algn="l" pos="5851440"/>
              </a:tabLst>
            </a:pPr>
            <a:r>
              <a:rPr b="1" lang="en-US" sz="3000" spc="-1" strike="noStrike" u="sng">
                <a:solidFill>
                  <a:srgbClr val="0070c0"/>
                </a:solidFill>
                <a:uFillTx/>
                <a:latin typeface="Arial"/>
              </a:rPr>
              <a:t>Spot lights</a:t>
            </a:r>
            <a:r>
              <a:rPr b="1" lang="en-US" sz="3000" spc="-1" strike="noStrike">
                <a:solidFill>
                  <a:srgbClr val="0070c0"/>
                </a:solidFill>
                <a:latin typeface="Arial"/>
              </a:rPr>
              <a:t>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5851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cated on three different panel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Courier New"/>
              <a:buChar char="o"/>
              <a:tabLst>
                <a:tab algn="l" pos="585144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Panel 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provide lights for the patient’s head and neck reg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Courier New"/>
              <a:buChar char="o"/>
              <a:tabLst>
                <a:tab algn="l" pos="585144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Panel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provide lights for the thorax and abdomen reg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Courier New"/>
              <a:buChar char="o"/>
              <a:tabLst>
                <a:tab algn="l" pos="585144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Panel C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provide lights for the leg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5851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ghts on each panel can be activated independently from other panel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Arial"/>
              <a:buAutoNum type="arabicPeriod" startAt="2"/>
              <a:tabLst>
                <a:tab algn="l" pos="5851440"/>
              </a:tabLst>
            </a:pPr>
            <a:r>
              <a:rPr b="1" lang="en-US" sz="3000" spc="-1" strike="noStrike" u="sng">
                <a:solidFill>
                  <a:srgbClr val="0070c0"/>
                </a:solidFill>
                <a:uFillTx/>
                <a:latin typeface="Arial"/>
              </a:rPr>
              <a:t>Full-spectrum lights</a:t>
            </a:r>
            <a:r>
              <a:rPr b="1" lang="en-US" sz="3000" spc="-1" strike="noStrike">
                <a:solidFill>
                  <a:srgbClr val="0070c0"/>
                </a:solidFill>
                <a:latin typeface="Arial"/>
              </a:rPr>
              <a:t>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5851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dependently controlled the other lighting compon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5144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Arial"/>
              </a:rPr>
              <a:t>3. </a:t>
            </a:r>
            <a:r>
              <a:rPr b="1" lang="en-US" sz="3000" spc="-1" strike="noStrike" u="sng">
                <a:solidFill>
                  <a:srgbClr val="0070c0"/>
                </a:solidFill>
                <a:uFillTx/>
                <a:latin typeface="Arial"/>
              </a:rPr>
              <a:t>Multi-color LED lights</a:t>
            </a:r>
            <a:r>
              <a:rPr b="1" lang="en-US" sz="3000" spc="-1" strike="noStrike">
                <a:solidFill>
                  <a:srgbClr val="0070c0"/>
                </a:solidFill>
                <a:latin typeface="Arial"/>
              </a:rPr>
              <a:t>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5851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motely controlled by pati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5851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n change into 7 different colo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5851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 color changing mo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5851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se lights cannot be turned on when the spot lights are in used and vice versa. This prevents distraction to the working staff, nurses, and doctors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353"/>
          <p:cNvGrpSpPr/>
          <p:nvPr/>
        </p:nvGrpSpPr>
        <p:grpSpPr>
          <a:xfrm>
            <a:off x="10515600" y="28422720"/>
            <a:ext cx="11353680" cy="2244600"/>
            <a:chOff x="10515600" y="28422720"/>
            <a:chExt cx="11353680" cy="2244600"/>
          </a:xfrm>
        </p:grpSpPr>
        <p:sp>
          <p:nvSpPr>
            <p:cNvPr id="69" name="Rounded Rectangle 299"/>
            <p:cNvSpPr/>
            <p:nvPr/>
          </p:nvSpPr>
          <p:spPr>
            <a:xfrm>
              <a:off x="10515600" y="28422720"/>
              <a:ext cx="10050480" cy="2244600"/>
            </a:xfrm>
            <a:prstGeom prst="roundRect">
              <a:avLst>
                <a:gd name="adj" fmla="val 16667"/>
              </a:avLst>
            </a:prstGeom>
            <a:solidFill>
              <a:srgbClr val="eeece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1440"/>
                </a:tabLst>
              </a:pP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" name="Group 329"/>
            <p:cNvGrpSpPr/>
            <p:nvPr/>
          </p:nvGrpSpPr>
          <p:grpSpPr>
            <a:xfrm>
              <a:off x="11608200" y="28743840"/>
              <a:ext cx="546120" cy="560880"/>
              <a:chOff x="11608200" y="28743840"/>
              <a:chExt cx="546120" cy="560880"/>
            </a:xfrm>
          </p:grpSpPr>
          <p:sp>
            <p:nvSpPr>
              <p:cNvPr id="71" name="Oval 323"/>
              <p:cNvSpPr/>
              <p:nvPr/>
            </p:nvSpPr>
            <p:spPr>
              <a:xfrm>
                <a:off x="11608200" y="28905480"/>
                <a:ext cx="546120" cy="399240"/>
              </a:xfrm>
              <a:prstGeom prst="ellipse">
                <a:avLst/>
              </a:prstGeom>
              <a:solidFill>
                <a:srgbClr val="a6a6a6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Rectangle 324"/>
              <p:cNvSpPr/>
              <p:nvPr/>
            </p:nvSpPr>
            <p:spPr>
              <a:xfrm>
                <a:off x="11827080" y="28743840"/>
                <a:ext cx="108000" cy="322200"/>
              </a:xfrm>
              <a:prstGeom prst="rect">
                <a:avLst/>
              </a:prstGeom>
              <a:solidFill>
                <a:srgbClr val="595959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" name="Group 330"/>
            <p:cNvGrpSpPr/>
            <p:nvPr/>
          </p:nvGrpSpPr>
          <p:grpSpPr>
            <a:xfrm>
              <a:off x="14558040" y="28743840"/>
              <a:ext cx="546120" cy="560880"/>
              <a:chOff x="14558040" y="28743840"/>
              <a:chExt cx="546120" cy="560880"/>
            </a:xfrm>
          </p:grpSpPr>
          <p:sp>
            <p:nvSpPr>
              <p:cNvPr id="74" name="Oval 321"/>
              <p:cNvSpPr/>
              <p:nvPr/>
            </p:nvSpPr>
            <p:spPr>
              <a:xfrm>
                <a:off x="14558040" y="28905480"/>
                <a:ext cx="546120" cy="399240"/>
              </a:xfrm>
              <a:prstGeom prst="ellipse">
                <a:avLst/>
              </a:prstGeom>
              <a:solidFill>
                <a:srgbClr val="a6a6a6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Rectangle 322"/>
              <p:cNvSpPr/>
              <p:nvPr/>
            </p:nvSpPr>
            <p:spPr>
              <a:xfrm>
                <a:off x="14778000" y="28743840"/>
                <a:ext cx="105840" cy="322200"/>
              </a:xfrm>
              <a:prstGeom prst="rect">
                <a:avLst/>
              </a:prstGeom>
              <a:solidFill>
                <a:srgbClr val="595959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" name="Group 333"/>
            <p:cNvGrpSpPr/>
            <p:nvPr/>
          </p:nvGrpSpPr>
          <p:grpSpPr>
            <a:xfrm>
              <a:off x="17507520" y="28743840"/>
              <a:ext cx="546120" cy="560880"/>
              <a:chOff x="17507520" y="28743840"/>
              <a:chExt cx="546120" cy="560880"/>
            </a:xfrm>
          </p:grpSpPr>
          <p:sp>
            <p:nvSpPr>
              <p:cNvPr id="77" name="Oval 319"/>
              <p:cNvSpPr/>
              <p:nvPr/>
            </p:nvSpPr>
            <p:spPr>
              <a:xfrm>
                <a:off x="17507520" y="28905480"/>
                <a:ext cx="546120" cy="399240"/>
              </a:xfrm>
              <a:prstGeom prst="ellipse">
                <a:avLst/>
              </a:prstGeom>
              <a:solidFill>
                <a:srgbClr val="a6a6a6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Rectangle 320"/>
              <p:cNvSpPr/>
              <p:nvPr/>
            </p:nvSpPr>
            <p:spPr>
              <a:xfrm>
                <a:off x="17730360" y="28743840"/>
                <a:ext cx="105120" cy="322200"/>
              </a:xfrm>
              <a:prstGeom prst="rect">
                <a:avLst/>
              </a:prstGeom>
              <a:solidFill>
                <a:srgbClr val="595959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" name="Group 336"/>
            <p:cNvGrpSpPr/>
            <p:nvPr/>
          </p:nvGrpSpPr>
          <p:grpSpPr>
            <a:xfrm>
              <a:off x="11608200" y="29705760"/>
              <a:ext cx="546120" cy="560880"/>
              <a:chOff x="11608200" y="29705760"/>
              <a:chExt cx="546120" cy="560880"/>
            </a:xfrm>
          </p:grpSpPr>
          <p:sp>
            <p:nvSpPr>
              <p:cNvPr id="80" name="Oval 317"/>
              <p:cNvSpPr/>
              <p:nvPr/>
            </p:nvSpPr>
            <p:spPr>
              <a:xfrm>
                <a:off x="11608200" y="29865600"/>
                <a:ext cx="546120" cy="401040"/>
              </a:xfrm>
              <a:prstGeom prst="ellipse">
                <a:avLst/>
              </a:prstGeom>
              <a:solidFill>
                <a:srgbClr val="a6a6a6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Rectangle 318"/>
              <p:cNvSpPr/>
              <p:nvPr/>
            </p:nvSpPr>
            <p:spPr>
              <a:xfrm>
                <a:off x="11827080" y="29705760"/>
                <a:ext cx="108000" cy="321480"/>
              </a:xfrm>
              <a:prstGeom prst="rect">
                <a:avLst/>
              </a:prstGeom>
              <a:solidFill>
                <a:srgbClr val="595959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" name="Group 339"/>
            <p:cNvGrpSpPr/>
            <p:nvPr/>
          </p:nvGrpSpPr>
          <p:grpSpPr>
            <a:xfrm>
              <a:off x="14558040" y="29705760"/>
              <a:ext cx="546120" cy="560880"/>
              <a:chOff x="14558040" y="29705760"/>
              <a:chExt cx="546120" cy="560880"/>
            </a:xfrm>
          </p:grpSpPr>
          <p:sp>
            <p:nvSpPr>
              <p:cNvPr id="83" name="Oval 315"/>
              <p:cNvSpPr/>
              <p:nvPr/>
            </p:nvSpPr>
            <p:spPr>
              <a:xfrm>
                <a:off x="14558040" y="29865600"/>
                <a:ext cx="546120" cy="401040"/>
              </a:xfrm>
              <a:prstGeom prst="ellipse">
                <a:avLst/>
              </a:prstGeom>
              <a:solidFill>
                <a:srgbClr val="a6a6a6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Rectangle 316"/>
              <p:cNvSpPr/>
              <p:nvPr/>
            </p:nvSpPr>
            <p:spPr>
              <a:xfrm>
                <a:off x="14778000" y="29705760"/>
                <a:ext cx="105840" cy="321480"/>
              </a:xfrm>
              <a:prstGeom prst="rect">
                <a:avLst/>
              </a:prstGeom>
              <a:solidFill>
                <a:srgbClr val="595959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" name="Group 342"/>
            <p:cNvGrpSpPr/>
            <p:nvPr/>
          </p:nvGrpSpPr>
          <p:grpSpPr>
            <a:xfrm>
              <a:off x="17507520" y="29705760"/>
              <a:ext cx="546120" cy="560880"/>
              <a:chOff x="17507520" y="29705760"/>
              <a:chExt cx="546120" cy="560880"/>
            </a:xfrm>
          </p:grpSpPr>
          <p:sp>
            <p:nvSpPr>
              <p:cNvPr id="86" name="Oval 313"/>
              <p:cNvSpPr/>
              <p:nvPr/>
            </p:nvSpPr>
            <p:spPr>
              <a:xfrm>
                <a:off x="17507520" y="29865600"/>
                <a:ext cx="546120" cy="401040"/>
              </a:xfrm>
              <a:prstGeom prst="ellipse">
                <a:avLst/>
              </a:prstGeom>
              <a:solidFill>
                <a:srgbClr val="a6a6a6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Rectangle 314"/>
              <p:cNvSpPr/>
              <p:nvPr/>
            </p:nvSpPr>
            <p:spPr>
              <a:xfrm>
                <a:off x="17730360" y="29705760"/>
                <a:ext cx="105120" cy="321480"/>
              </a:xfrm>
              <a:prstGeom prst="rect">
                <a:avLst/>
              </a:prstGeom>
              <a:solidFill>
                <a:srgbClr val="595959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TextBox 306"/>
            <p:cNvSpPr/>
            <p:nvPr/>
          </p:nvSpPr>
          <p:spPr>
            <a:xfrm>
              <a:off x="10628280" y="29865600"/>
              <a:ext cx="77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5144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Box 307"/>
            <p:cNvSpPr/>
            <p:nvPr/>
          </p:nvSpPr>
          <p:spPr>
            <a:xfrm>
              <a:off x="12267360" y="29865600"/>
              <a:ext cx="145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585144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pot ligh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Box 308"/>
            <p:cNvSpPr/>
            <p:nvPr/>
          </p:nvSpPr>
          <p:spPr>
            <a:xfrm>
              <a:off x="12267360" y="28663920"/>
              <a:ext cx="1755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585144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n/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585144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pot light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Box 309"/>
            <p:cNvSpPr/>
            <p:nvPr/>
          </p:nvSpPr>
          <p:spPr>
            <a:xfrm>
              <a:off x="15215040" y="28663920"/>
              <a:ext cx="1738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585144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n/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585144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pot light 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Box 310"/>
            <p:cNvSpPr/>
            <p:nvPr/>
          </p:nvSpPr>
          <p:spPr>
            <a:xfrm>
              <a:off x="18165240" y="28663920"/>
              <a:ext cx="1755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585144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n/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585144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pot light 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Box 311"/>
            <p:cNvSpPr/>
            <p:nvPr/>
          </p:nvSpPr>
          <p:spPr>
            <a:xfrm>
              <a:off x="15212520" y="29865600"/>
              <a:ext cx="175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585144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n/Off L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Box 312"/>
            <p:cNvSpPr/>
            <p:nvPr/>
          </p:nvSpPr>
          <p:spPr>
            <a:xfrm>
              <a:off x="18162360" y="29625840"/>
              <a:ext cx="3706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585144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n/Off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585144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ull-spec ligh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TextBox 298"/>
          <p:cNvSpPr/>
          <p:nvPr/>
        </p:nvSpPr>
        <p:spPr>
          <a:xfrm>
            <a:off x="12725280" y="27812880"/>
            <a:ext cx="591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851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ght Controller Swit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0363320" y="40157280"/>
          <a:ext cx="21412080" cy="3170520"/>
        </p:xfrm>
        <a:graphic>
          <a:graphicData uri="http://schemas.openxmlformats.org/drawingml/2006/table">
            <a:tbl>
              <a:tblPr/>
              <a:tblGrid>
                <a:gridCol w="10706040"/>
                <a:gridCol w="10706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ign Components &amp; Functional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esthetic Appear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lement RFID technology in place of spot lights. Allow for specific localized lighting of points of interes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ze Daylight and Full-Spectrum lighting technology to maximize healing capabilities from light source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rove ambient lighting with more research into effects of colors on socio-psychological health of patient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lore different geometric shapes &amp; alternative materials for construction of system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5851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lore different placement of lighting component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  <p:grpSp>
        <p:nvGrpSpPr>
          <p:cNvPr id="97" name="Group 503"/>
          <p:cNvGrpSpPr/>
          <p:nvPr/>
        </p:nvGrpSpPr>
        <p:grpSpPr>
          <a:xfrm>
            <a:off x="16146360" y="32764320"/>
            <a:ext cx="1406520" cy="408240"/>
            <a:chOff x="16146360" y="32764320"/>
            <a:chExt cx="1406520" cy="408240"/>
          </a:xfrm>
        </p:grpSpPr>
        <p:sp>
          <p:nvSpPr>
            <p:cNvPr id="98" name="Rectangle 544"/>
            <p:cNvSpPr/>
            <p:nvPr/>
          </p:nvSpPr>
          <p:spPr>
            <a:xfrm>
              <a:off x="16146360" y="32764320"/>
              <a:ext cx="1406520" cy="40824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1440"/>
                </a:tabLst>
              </a:pP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545"/>
            <p:cNvSpPr/>
            <p:nvPr/>
          </p:nvSpPr>
          <p:spPr>
            <a:xfrm>
              <a:off x="16708320" y="32845320"/>
              <a:ext cx="282600" cy="244800"/>
            </a:xfrm>
            <a:prstGeom prst="ellipse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1440"/>
                </a:tabLst>
              </a:pP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546"/>
            <p:cNvSpPr/>
            <p:nvPr/>
          </p:nvSpPr>
          <p:spPr>
            <a:xfrm>
              <a:off x="17411760" y="32927760"/>
              <a:ext cx="93600" cy="810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1440"/>
                </a:tabLst>
              </a:pP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547"/>
            <p:cNvSpPr/>
            <p:nvPr/>
          </p:nvSpPr>
          <p:spPr>
            <a:xfrm>
              <a:off x="16239960" y="32927760"/>
              <a:ext cx="93600" cy="810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1440"/>
                </a:tabLst>
              </a:pP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TextBox 511"/>
          <p:cNvSpPr/>
          <p:nvPr/>
        </p:nvSpPr>
        <p:spPr>
          <a:xfrm>
            <a:off x="15416280" y="32083200"/>
            <a:ext cx="20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851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379"/>
          <p:cNvGrpSpPr/>
          <p:nvPr/>
        </p:nvGrpSpPr>
        <p:grpSpPr>
          <a:xfrm>
            <a:off x="10515600" y="32465880"/>
            <a:ext cx="9542880" cy="5423400"/>
            <a:chOff x="10515600" y="32465880"/>
            <a:chExt cx="9542880" cy="5423400"/>
          </a:xfrm>
        </p:grpSpPr>
        <p:sp>
          <p:nvSpPr>
            <p:cNvPr id="104" name="Rectangle 572"/>
            <p:cNvSpPr/>
            <p:nvPr/>
          </p:nvSpPr>
          <p:spPr>
            <a:xfrm>
              <a:off x="13368240" y="32762880"/>
              <a:ext cx="1406520" cy="36828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1440"/>
                </a:tabLst>
              </a:pP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573"/>
            <p:cNvSpPr/>
            <p:nvPr/>
          </p:nvSpPr>
          <p:spPr>
            <a:xfrm>
              <a:off x="13555800" y="32926320"/>
              <a:ext cx="93600" cy="824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1440"/>
                </a:tabLst>
              </a:pP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574"/>
            <p:cNvSpPr/>
            <p:nvPr/>
          </p:nvSpPr>
          <p:spPr>
            <a:xfrm>
              <a:off x="14540040" y="32926320"/>
              <a:ext cx="95040" cy="824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1440"/>
                </a:tabLst>
              </a:pP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575"/>
            <p:cNvSpPr/>
            <p:nvPr/>
          </p:nvSpPr>
          <p:spPr>
            <a:xfrm flipV="1">
              <a:off x="13603320" y="32886360"/>
              <a:ext cx="936720" cy="8100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Box 576"/>
            <p:cNvSpPr/>
            <p:nvPr/>
          </p:nvSpPr>
          <p:spPr>
            <a:xfrm>
              <a:off x="12879000" y="3299472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58514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F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Box 577"/>
            <p:cNvSpPr/>
            <p:nvPr/>
          </p:nvSpPr>
          <p:spPr>
            <a:xfrm>
              <a:off x="14776560" y="32967720"/>
              <a:ext cx="44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58514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566"/>
            <p:cNvSpPr/>
            <p:nvPr/>
          </p:nvSpPr>
          <p:spPr>
            <a:xfrm>
              <a:off x="13368240" y="35623440"/>
              <a:ext cx="1406520" cy="36504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1440"/>
                </a:tabLst>
              </a:pP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567"/>
            <p:cNvSpPr/>
            <p:nvPr/>
          </p:nvSpPr>
          <p:spPr>
            <a:xfrm>
              <a:off x="13555800" y="35785440"/>
              <a:ext cx="93600" cy="824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1440"/>
                </a:tabLst>
              </a:pP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568"/>
            <p:cNvSpPr/>
            <p:nvPr/>
          </p:nvSpPr>
          <p:spPr>
            <a:xfrm>
              <a:off x="14540040" y="35785440"/>
              <a:ext cx="95040" cy="824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1440"/>
                </a:tabLst>
              </a:pP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Straight Connector 569"/>
            <p:cNvSpPr/>
            <p:nvPr/>
          </p:nvSpPr>
          <p:spPr>
            <a:xfrm flipV="1">
              <a:off x="13603320" y="35745480"/>
              <a:ext cx="936720" cy="8100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Box 570"/>
            <p:cNvSpPr/>
            <p:nvPr/>
          </p:nvSpPr>
          <p:spPr>
            <a:xfrm>
              <a:off x="12879000" y="3585384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58514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F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Box 571"/>
            <p:cNvSpPr/>
            <p:nvPr/>
          </p:nvSpPr>
          <p:spPr>
            <a:xfrm>
              <a:off x="14776560" y="35826840"/>
              <a:ext cx="44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58514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560"/>
            <p:cNvSpPr/>
            <p:nvPr/>
          </p:nvSpPr>
          <p:spPr>
            <a:xfrm>
              <a:off x="13368240" y="33499440"/>
              <a:ext cx="1406520" cy="36684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1440"/>
                </a:tabLst>
              </a:pP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561"/>
            <p:cNvSpPr/>
            <p:nvPr/>
          </p:nvSpPr>
          <p:spPr>
            <a:xfrm>
              <a:off x="13555800" y="33662880"/>
              <a:ext cx="93600" cy="810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1440"/>
                </a:tabLst>
              </a:pP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562"/>
            <p:cNvSpPr/>
            <p:nvPr/>
          </p:nvSpPr>
          <p:spPr>
            <a:xfrm>
              <a:off x="14540040" y="33662880"/>
              <a:ext cx="95040" cy="810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1440"/>
                </a:tabLst>
              </a:pP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Straight Connector 563"/>
            <p:cNvSpPr/>
            <p:nvPr/>
          </p:nvSpPr>
          <p:spPr>
            <a:xfrm flipV="1">
              <a:off x="13603320" y="33621840"/>
              <a:ext cx="936720" cy="806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Box 564"/>
            <p:cNvSpPr/>
            <p:nvPr/>
          </p:nvSpPr>
          <p:spPr>
            <a:xfrm>
              <a:off x="12879000" y="3373128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58514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F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Box 565"/>
            <p:cNvSpPr/>
            <p:nvPr/>
          </p:nvSpPr>
          <p:spPr>
            <a:xfrm>
              <a:off x="14776560" y="33702480"/>
              <a:ext cx="44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58514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54"/>
            <p:cNvSpPr/>
            <p:nvPr/>
          </p:nvSpPr>
          <p:spPr>
            <a:xfrm>
              <a:off x="13368240" y="34234560"/>
              <a:ext cx="1406520" cy="36648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1440"/>
                </a:tabLst>
              </a:pP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555"/>
            <p:cNvSpPr/>
            <p:nvPr/>
          </p:nvSpPr>
          <p:spPr>
            <a:xfrm>
              <a:off x="13555800" y="34398000"/>
              <a:ext cx="93600" cy="810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1440"/>
                </a:tabLst>
              </a:pP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556"/>
            <p:cNvSpPr/>
            <p:nvPr/>
          </p:nvSpPr>
          <p:spPr>
            <a:xfrm>
              <a:off x="14540040" y="34398000"/>
              <a:ext cx="95040" cy="810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1440"/>
                </a:tabLst>
              </a:pP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Straight Connector 557"/>
            <p:cNvSpPr/>
            <p:nvPr/>
          </p:nvSpPr>
          <p:spPr>
            <a:xfrm flipV="1">
              <a:off x="13603320" y="34358040"/>
              <a:ext cx="936720" cy="8100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Box 558"/>
            <p:cNvSpPr/>
            <p:nvPr/>
          </p:nvSpPr>
          <p:spPr>
            <a:xfrm>
              <a:off x="12879000" y="3446604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58514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F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Box 559"/>
            <p:cNvSpPr/>
            <p:nvPr/>
          </p:nvSpPr>
          <p:spPr>
            <a:xfrm>
              <a:off x="14776560" y="34439400"/>
              <a:ext cx="44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58514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548"/>
            <p:cNvSpPr/>
            <p:nvPr/>
          </p:nvSpPr>
          <p:spPr>
            <a:xfrm>
              <a:off x="13368240" y="34928280"/>
              <a:ext cx="1406520" cy="36828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1440"/>
                </a:tabLst>
              </a:pP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549"/>
            <p:cNvSpPr/>
            <p:nvPr/>
          </p:nvSpPr>
          <p:spPr>
            <a:xfrm>
              <a:off x="13555800" y="35091720"/>
              <a:ext cx="93600" cy="824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1440"/>
                </a:tabLst>
              </a:pP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550"/>
            <p:cNvSpPr/>
            <p:nvPr/>
          </p:nvSpPr>
          <p:spPr>
            <a:xfrm>
              <a:off x="14540040" y="35091720"/>
              <a:ext cx="95040" cy="824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1440"/>
                </a:tabLst>
              </a:pP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Straight Connector 551"/>
            <p:cNvSpPr/>
            <p:nvPr/>
          </p:nvSpPr>
          <p:spPr>
            <a:xfrm flipV="1">
              <a:off x="13603320" y="35051760"/>
              <a:ext cx="936720" cy="82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Box 552"/>
            <p:cNvSpPr/>
            <p:nvPr/>
          </p:nvSpPr>
          <p:spPr>
            <a:xfrm>
              <a:off x="12879000" y="3516012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58514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F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Box 553"/>
            <p:cNvSpPr/>
            <p:nvPr/>
          </p:nvSpPr>
          <p:spPr>
            <a:xfrm>
              <a:off x="14776560" y="35133120"/>
              <a:ext cx="44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58514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Straight Connector 472"/>
            <p:cNvSpPr/>
            <p:nvPr/>
          </p:nvSpPr>
          <p:spPr>
            <a:xfrm>
              <a:off x="12584160" y="32967720"/>
              <a:ext cx="98424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Straight Connector 473"/>
            <p:cNvSpPr/>
            <p:nvPr/>
          </p:nvSpPr>
          <p:spPr>
            <a:xfrm>
              <a:off x="12584160" y="33702480"/>
              <a:ext cx="984240" cy="18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Straight Connector 474"/>
            <p:cNvSpPr/>
            <p:nvPr/>
          </p:nvSpPr>
          <p:spPr>
            <a:xfrm>
              <a:off x="12584160" y="34439400"/>
              <a:ext cx="98424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Straight Connector 475"/>
            <p:cNvSpPr/>
            <p:nvPr/>
          </p:nvSpPr>
          <p:spPr>
            <a:xfrm>
              <a:off x="12725280" y="35133120"/>
              <a:ext cx="84312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Straight Connector 476"/>
            <p:cNvSpPr/>
            <p:nvPr/>
          </p:nvSpPr>
          <p:spPr>
            <a:xfrm>
              <a:off x="12864960" y="35826840"/>
              <a:ext cx="70344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Straight Connector 477"/>
            <p:cNvSpPr/>
            <p:nvPr/>
          </p:nvSpPr>
          <p:spPr>
            <a:xfrm flipH="1">
              <a:off x="12584160" y="32967720"/>
              <a:ext cx="1440" cy="35956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478"/>
            <p:cNvSpPr/>
            <p:nvPr/>
          </p:nvSpPr>
          <p:spPr>
            <a:xfrm>
              <a:off x="12864960" y="36317160"/>
              <a:ext cx="703440" cy="1063800"/>
            </a:xfrm>
            <a:prstGeom prst="rect">
              <a:avLst/>
            </a:prstGeom>
            <a:solidFill>
              <a:srgbClr val="b9cde5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1440"/>
                </a:tabLst>
              </a:pP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479"/>
            <p:cNvSpPr/>
            <p:nvPr/>
          </p:nvSpPr>
          <p:spPr>
            <a:xfrm>
              <a:off x="13146120" y="36522000"/>
              <a:ext cx="141120" cy="1224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1440"/>
                </a:tabLst>
              </a:pP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480"/>
            <p:cNvSpPr/>
            <p:nvPr/>
          </p:nvSpPr>
          <p:spPr>
            <a:xfrm>
              <a:off x="13146120" y="36809280"/>
              <a:ext cx="141120" cy="1206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1440"/>
                </a:tabLst>
              </a:pP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481"/>
            <p:cNvSpPr/>
            <p:nvPr/>
          </p:nvSpPr>
          <p:spPr>
            <a:xfrm>
              <a:off x="13146120" y="37093680"/>
              <a:ext cx="141120" cy="1238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1440"/>
                </a:tabLst>
              </a:pP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482"/>
            <p:cNvSpPr/>
            <p:nvPr/>
          </p:nvSpPr>
          <p:spPr>
            <a:xfrm>
              <a:off x="11741040" y="34642440"/>
              <a:ext cx="139680" cy="1238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1440"/>
                </a:tabLst>
              </a:pP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483"/>
            <p:cNvSpPr/>
            <p:nvPr/>
          </p:nvSpPr>
          <p:spPr>
            <a:xfrm>
              <a:off x="11741040" y="35052120"/>
              <a:ext cx="139680" cy="1220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1440"/>
                </a:tabLst>
              </a:pP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Arc 484"/>
            <p:cNvSpPr/>
            <p:nvPr/>
          </p:nvSpPr>
          <p:spPr>
            <a:xfrm rot="8025600">
              <a:off x="12328560" y="34742160"/>
              <a:ext cx="433440" cy="4968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1440"/>
                </a:tabLst>
              </a:pP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Straight Connector 485"/>
            <p:cNvSpPr/>
            <p:nvPr/>
          </p:nvSpPr>
          <p:spPr>
            <a:xfrm>
              <a:off x="11834640" y="35133120"/>
              <a:ext cx="56232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Straight Connector 486"/>
            <p:cNvSpPr/>
            <p:nvPr/>
          </p:nvSpPr>
          <p:spPr>
            <a:xfrm flipH="1">
              <a:off x="12583800" y="36563400"/>
              <a:ext cx="56196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Straight Connector 487"/>
            <p:cNvSpPr/>
            <p:nvPr/>
          </p:nvSpPr>
          <p:spPr>
            <a:xfrm>
              <a:off x="12864960" y="35826840"/>
              <a:ext cx="0" cy="32832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Straight Connector 488"/>
            <p:cNvSpPr/>
            <p:nvPr/>
          </p:nvSpPr>
          <p:spPr>
            <a:xfrm>
              <a:off x="12864960" y="36153720"/>
              <a:ext cx="93852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Straight Connector 489"/>
            <p:cNvSpPr/>
            <p:nvPr/>
          </p:nvSpPr>
          <p:spPr>
            <a:xfrm>
              <a:off x="13803480" y="36153720"/>
              <a:ext cx="0" cy="10224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Straight Connector 490"/>
            <p:cNvSpPr/>
            <p:nvPr/>
          </p:nvSpPr>
          <p:spPr>
            <a:xfrm flipH="1">
              <a:off x="13241160" y="37176120"/>
              <a:ext cx="56232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Straight Connector 491"/>
            <p:cNvSpPr/>
            <p:nvPr/>
          </p:nvSpPr>
          <p:spPr>
            <a:xfrm flipH="1" flipV="1">
              <a:off x="11834280" y="36848520"/>
              <a:ext cx="1359000" cy="18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Straight Connector 492"/>
            <p:cNvSpPr/>
            <p:nvPr/>
          </p:nvSpPr>
          <p:spPr>
            <a:xfrm>
              <a:off x="11836440" y="35133120"/>
              <a:ext cx="0" cy="17157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Straight Connector 493"/>
            <p:cNvSpPr/>
            <p:nvPr/>
          </p:nvSpPr>
          <p:spPr>
            <a:xfrm flipV="1">
              <a:off x="11834640" y="32478840"/>
              <a:ext cx="0" cy="21650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Straight Connector 494"/>
            <p:cNvSpPr/>
            <p:nvPr/>
          </p:nvSpPr>
          <p:spPr>
            <a:xfrm>
              <a:off x="11834640" y="32478840"/>
              <a:ext cx="562464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Straight Connector 495"/>
            <p:cNvSpPr/>
            <p:nvPr/>
          </p:nvSpPr>
          <p:spPr>
            <a:xfrm>
              <a:off x="17459280" y="32465880"/>
              <a:ext cx="0" cy="33084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" name="Group 502"/>
            <p:cNvGrpSpPr/>
            <p:nvPr/>
          </p:nvGrpSpPr>
          <p:grpSpPr>
            <a:xfrm>
              <a:off x="16146360" y="33499440"/>
              <a:ext cx="1406520" cy="407880"/>
              <a:chOff x="16146360" y="33499440"/>
              <a:chExt cx="1406520" cy="407880"/>
            </a:xfrm>
          </p:grpSpPr>
          <p:sp>
            <p:nvSpPr>
              <p:cNvPr id="159" name="Rectangle 539"/>
              <p:cNvSpPr/>
              <p:nvPr/>
            </p:nvSpPr>
            <p:spPr>
              <a:xfrm>
                <a:off x="16146360" y="33499440"/>
                <a:ext cx="1406520" cy="407880"/>
              </a:xfrm>
              <a:prstGeom prst="rect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Oval 540"/>
              <p:cNvSpPr/>
              <p:nvPr/>
            </p:nvSpPr>
            <p:spPr>
              <a:xfrm>
                <a:off x="16476480" y="33581880"/>
                <a:ext cx="279360" cy="244440"/>
              </a:xfrm>
              <a:prstGeom prst="ellipse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Oval 541"/>
              <p:cNvSpPr/>
              <p:nvPr/>
            </p:nvSpPr>
            <p:spPr>
              <a:xfrm>
                <a:off x="16990920" y="33581880"/>
                <a:ext cx="280800" cy="244440"/>
              </a:xfrm>
              <a:prstGeom prst="ellipse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Oval 542"/>
              <p:cNvSpPr/>
              <p:nvPr/>
            </p:nvSpPr>
            <p:spPr>
              <a:xfrm>
                <a:off x="17411760" y="33662880"/>
                <a:ext cx="93600" cy="8244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Oval 543"/>
              <p:cNvSpPr/>
              <p:nvPr/>
            </p:nvSpPr>
            <p:spPr>
              <a:xfrm>
                <a:off x="16193880" y="33662880"/>
                <a:ext cx="93600" cy="8244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Group 501"/>
            <p:cNvGrpSpPr/>
            <p:nvPr/>
          </p:nvGrpSpPr>
          <p:grpSpPr>
            <a:xfrm>
              <a:off x="16146360" y="34234560"/>
              <a:ext cx="1406520" cy="407880"/>
              <a:chOff x="16146360" y="34234560"/>
              <a:chExt cx="1406520" cy="407880"/>
            </a:xfrm>
          </p:grpSpPr>
          <p:sp>
            <p:nvSpPr>
              <p:cNvPr id="165" name="Rectangle 533"/>
              <p:cNvSpPr/>
              <p:nvPr/>
            </p:nvSpPr>
            <p:spPr>
              <a:xfrm>
                <a:off x="16146360" y="34234560"/>
                <a:ext cx="1406520" cy="407880"/>
              </a:xfrm>
              <a:prstGeom prst="rect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Oval 534"/>
              <p:cNvSpPr/>
              <p:nvPr/>
            </p:nvSpPr>
            <p:spPr>
              <a:xfrm>
                <a:off x="16381080" y="34315560"/>
                <a:ext cx="280800" cy="244440"/>
              </a:xfrm>
              <a:prstGeom prst="ellipse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Oval 535"/>
              <p:cNvSpPr/>
              <p:nvPr/>
            </p:nvSpPr>
            <p:spPr>
              <a:xfrm>
                <a:off x="16708320" y="34315560"/>
                <a:ext cx="282600" cy="244440"/>
              </a:xfrm>
              <a:prstGeom prst="ellipse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Oval 536"/>
              <p:cNvSpPr/>
              <p:nvPr/>
            </p:nvSpPr>
            <p:spPr>
              <a:xfrm>
                <a:off x="17037000" y="34315560"/>
                <a:ext cx="280800" cy="244440"/>
              </a:xfrm>
              <a:prstGeom prst="ellipse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Oval 537"/>
              <p:cNvSpPr/>
              <p:nvPr/>
            </p:nvSpPr>
            <p:spPr>
              <a:xfrm>
                <a:off x="17411760" y="34398000"/>
                <a:ext cx="93600" cy="7920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Oval 538"/>
              <p:cNvSpPr/>
              <p:nvPr/>
            </p:nvSpPr>
            <p:spPr>
              <a:xfrm>
                <a:off x="16193880" y="34398000"/>
                <a:ext cx="93600" cy="7920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" name="Group 500"/>
            <p:cNvGrpSpPr/>
            <p:nvPr/>
          </p:nvGrpSpPr>
          <p:grpSpPr>
            <a:xfrm>
              <a:off x="16146360" y="35010720"/>
              <a:ext cx="1406520" cy="244440"/>
              <a:chOff x="16146360" y="35010720"/>
              <a:chExt cx="1406520" cy="244440"/>
            </a:xfrm>
          </p:grpSpPr>
          <p:sp>
            <p:nvSpPr>
              <p:cNvPr id="172" name="Rectangle 530"/>
              <p:cNvSpPr/>
              <p:nvPr/>
            </p:nvSpPr>
            <p:spPr>
              <a:xfrm>
                <a:off x="16146360" y="35010720"/>
                <a:ext cx="1406520" cy="244440"/>
              </a:xfrm>
              <a:prstGeom prst="rect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Oval 531"/>
              <p:cNvSpPr/>
              <p:nvPr/>
            </p:nvSpPr>
            <p:spPr>
              <a:xfrm>
                <a:off x="17411760" y="35091720"/>
                <a:ext cx="93600" cy="8100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Oval 532"/>
              <p:cNvSpPr/>
              <p:nvPr/>
            </p:nvSpPr>
            <p:spPr>
              <a:xfrm>
                <a:off x="16193880" y="35091720"/>
                <a:ext cx="93600" cy="8100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Group 499"/>
            <p:cNvGrpSpPr/>
            <p:nvPr/>
          </p:nvGrpSpPr>
          <p:grpSpPr>
            <a:xfrm>
              <a:off x="16052760" y="35745840"/>
              <a:ext cx="1500120" cy="163440"/>
              <a:chOff x="16052760" y="35745840"/>
              <a:chExt cx="1500120" cy="163440"/>
            </a:xfrm>
          </p:grpSpPr>
          <p:sp>
            <p:nvSpPr>
              <p:cNvPr id="176" name="Rectangle 524"/>
              <p:cNvSpPr/>
              <p:nvPr/>
            </p:nvSpPr>
            <p:spPr>
              <a:xfrm>
                <a:off x="16052760" y="35745840"/>
                <a:ext cx="1500120" cy="163440"/>
              </a:xfrm>
              <a:prstGeom prst="rect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Oval 525"/>
              <p:cNvSpPr/>
              <p:nvPr/>
            </p:nvSpPr>
            <p:spPr>
              <a:xfrm>
                <a:off x="16440120" y="35745840"/>
                <a:ext cx="128520" cy="163440"/>
              </a:xfrm>
              <a:prstGeom prst="ellipse">
                <a:avLst/>
              </a:prstGeom>
              <a:solidFill>
                <a:srgbClr val="77933c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Oval 526"/>
              <p:cNvSpPr/>
              <p:nvPr/>
            </p:nvSpPr>
            <p:spPr>
              <a:xfrm>
                <a:off x="16730640" y="35745840"/>
                <a:ext cx="118800" cy="163440"/>
              </a:xfrm>
              <a:prstGeom prst="ellipse">
                <a:avLst/>
              </a:prstGeom>
              <a:solidFill>
                <a:srgbClr val="77933c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Oval 527"/>
              <p:cNvSpPr/>
              <p:nvPr/>
            </p:nvSpPr>
            <p:spPr>
              <a:xfrm>
                <a:off x="17019720" y="35745840"/>
                <a:ext cx="110880" cy="163440"/>
              </a:xfrm>
              <a:prstGeom prst="ellipse">
                <a:avLst/>
              </a:prstGeom>
              <a:solidFill>
                <a:srgbClr val="77933c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Oval 528"/>
              <p:cNvSpPr/>
              <p:nvPr/>
            </p:nvSpPr>
            <p:spPr>
              <a:xfrm>
                <a:off x="16100280" y="35786880"/>
                <a:ext cx="93600" cy="8244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Oval 529"/>
              <p:cNvSpPr/>
              <p:nvPr/>
            </p:nvSpPr>
            <p:spPr>
              <a:xfrm>
                <a:off x="17411760" y="35786880"/>
                <a:ext cx="93600" cy="8244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Straight Connector 501"/>
            <p:cNvSpPr/>
            <p:nvPr/>
          </p:nvSpPr>
          <p:spPr>
            <a:xfrm>
              <a:off x="14527080" y="32967720"/>
              <a:ext cx="170028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Straight Connector 502"/>
            <p:cNvSpPr/>
            <p:nvPr/>
          </p:nvSpPr>
          <p:spPr>
            <a:xfrm flipV="1">
              <a:off x="14551920" y="33702120"/>
              <a:ext cx="1700280" cy="18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Straight Connector 503"/>
            <p:cNvSpPr/>
            <p:nvPr/>
          </p:nvSpPr>
          <p:spPr>
            <a:xfrm flipV="1">
              <a:off x="14599440" y="34439400"/>
              <a:ext cx="169884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Straight Connector 504"/>
            <p:cNvSpPr/>
            <p:nvPr/>
          </p:nvSpPr>
          <p:spPr>
            <a:xfrm flipV="1">
              <a:off x="14551920" y="35133120"/>
              <a:ext cx="170028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Straight Connector 505"/>
            <p:cNvSpPr/>
            <p:nvPr/>
          </p:nvSpPr>
          <p:spPr>
            <a:xfrm flipV="1">
              <a:off x="14540040" y="35828280"/>
              <a:ext cx="154764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Box 506"/>
            <p:cNvSpPr/>
            <p:nvPr/>
          </p:nvSpPr>
          <p:spPr>
            <a:xfrm>
              <a:off x="15392520" y="32615280"/>
              <a:ext cx="20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585144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Box 507"/>
            <p:cNvSpPr/>
            <p:nvPr/>
          </p:nvSpPr>
          <p:spPr>
            <a:xfrm>
              <a:off x="15392520" y="33309000"/>
              <a:ext cx="20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585144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Box 508"/>
            <p:cNvSpPr/>
            <p:nvPr/>
          </p:nvSpPr>
          <p:spPr>
            <a:xfrm>
              <a:off x="15392520" y="34043760"/>
              <a:ext cx="20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585144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Box 509"/>
            <p:cNvSpPr/>
            <p:nvPr/>
          </p:nvSpPr>
          <p:spPr>
            <a:xfrm>
              <a:off x="15392520" y="34739280"/>
              <a:ext cx="20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585144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Box 510"/>
            <p:cNvSpPr/>
            <p:nvPr/>
          </p:nvSpPr>
          <p:spPr>
            <a:xfrm>
              <a:off x="15392520" y="35433000"/>
              <a:ext cx="20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585144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Box 512"/>
            <p:cNvSpPr/>
            <p:nvPr/>
          </p:nvSpPr>
          <p:spPr>
            <a:xfrm>
              <a:off x="11506320" y="35204400"/>
              <a:ext cx="20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585144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513"/>
            <p:cNvSpPr/>
            <p:nvPr/>
          </p:nvSpPr>
          <p:spPr>
            <a:xfrm>
              <a:off x="11506320" y="34366320"/>
              <a:ext cx="20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585144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Box 514"/>
            <p:cNvSpPr/>
            <p:nvPr/>
          </p:nvSpPr>
          <p:spPr>
            <a:xfrm>
              <a:off x="10593360" y="34747200"/>
              <a:ext cx="119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58514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20 VA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Box 515"/>
            <p:cNvSpPr/>
            <p:nvPr/>
          </p:nvSpPr>
          <p:spPr>
            <a:xfrm>
              <a:off x="17602200" y="32886720"/>
              <a:ext cx="1479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58514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pot light 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Box 516"/>
            <p:cNvSpPr/>
            <p:nvPr/>
          </p:nvSpPr>
          <p:spPr>
            <a:xfrm>
              <a:off x="17602200" y="33621840"/>
              <a:ext cx="1479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58514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pot light 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Box 517"/>
            <p:cNvSpPr/>
            <p:nvPr/>
          </p:nvSpPr>
          <p:spPr>
            <a:xfrm>
              <a:off x="17601840" y="34315560"/>
              <a:ext cx="149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58514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pot light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Box 518"/>
            <p:cNvSpPr/>
            <p:nvPr/>
          </p:nvSpPr>
          <p:spPr>
            <a:xfrm>
              <a:off x="17599680" y="35010720"/>
              <a:ext cx="226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58514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ull-spectrum ligh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Box 519"/>
            <p:cNvSpPr/>
            <p:nvPr/>
          </p:nvSpPr>
          <p:spPr>
            <a:xfrm>
              <a:off x="17600760" y="35704440"/>
              <a:ext cx="24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58514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ulti-color LED ligh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520"/>
            <p:cNvSpPr/>
            <p:nvPr/>
          </p:nvSpPr>
          <p:spPr>
            <a:xfrm>
              <a:off x="10515600" y="34442280"/>
              <a:ext cx="1476360" cy="122724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1440"/>
                </a:tabLst>
              </a:pP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521"/>
            <p:cNvSpPr/>
            <p:nvPr/>
          </p:nvSpPr>
          <p:spPr>
            <a:xfrm>
              <a:off x="12720600" y="37490400"/>
              <a:ext cx="5613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58514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oggle switch between spot lights vs. LED ligh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TextBox 523"/>
          <p:cNvSpPr/>
          <p:nvPr/>
        </p:nvSpPr>
        <p:spPr>
          <a:xfrm>
            <a:off x="10444320" y="31470480"/>
            <a:ext cx="745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514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hematic of Electrical Wi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21"/>
          <p:cNvSpPr/>
          <p:nvPr/>
        </p:nvSpPr>
        <p:spPr>
          <a:xfrm>
            <a:off x="1450080" y="7010280"/>
            <a:ext cx="3940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1" lang="en-US" sz="8400" spc="-1" strike="noStrike">
                <a:solidFill>
                  <a:srgbClr val="000000"/>
                </a:solidFill>
                <a:latin typeface="Calibri"/>
              </a:rPr>
              <a:t>Problem</a:t>
            </a: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580"/>
          <p:cNvSpPr/>
          <p:nvPr/>
        </p:nvSpPr>
        <p:spPr>
          <a:xfrm>
            <a:off x="5715000" y="7162920"/>
            <a:ext cx="26517600" cy="137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buClr>
                <a:srgbClr val="000000"/>
              </a:buClr>
              <a:buFont typeface="Arial"/>
              <a:buAutoNum type="arabicPeriod"/>
              <a:tabLst>
                <a:tab algn="l" pos="585144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or lighting in the emergency treatment  room hinders healthcare staff from providing quality care.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buClr>
                <a:srgbClr val="000000"/>
              </a:buClr>
              <a:buFont typeface="Arial"/>
              <a:buAutoNum type="arabicPeriod"/>
              <a:tabLst>
                <a:tab algn="l" pos="585144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ighting system does not provide a healing environment for the patient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581"/>
          <p:cNvSpPr/>
          <p:nvPr/>
        </p:nvSpPr>
        <p:spPr>
          <a:xfrm>
            <a:off x="1447920" y="10896480"/>
            <a:ext cx="8534160" cy="11792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5851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ian &amp; nurses must be able to acquire working lights in an expedited manner </a:t>
            </a:r>
            <a:r>
              <a:rPr b="1" lang="en-US" sz="32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 No complicated &amp; complex lighting syst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58514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5851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al lighting must be clear, bright, white lights </a:t>
            </a:r>
            <a:r>
              <a:rPr b="1" lang="en-US" sz="32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No impurities in light propert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This prevents the light from obscuring any important facts during medical physical exa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58514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5851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ient must be provided with ambient lighting, and the patient must have control over the environment </a:t>
            </a:r>
            <a:r>
              <a:rPr b="1" lang="en-US" sz="32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 Remote controlled ambient lighting syst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58514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5851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must also be general, diffuse lighting that allows for staff to provide room maintenance </a:t>
            </a:r>
            <a:r>
              <a:rPr b="1" lang="en-US" sz="32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 Provide general working lights for staff and technicia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58514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5851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tegrated lighting system should not be cost prohibitive </a:t>
            </a:r>
            <a:r>
              <a:rPr b="1" lang="en-US" sz="32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 Should allow for economically &amp; financially sound investment as well as easy instal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326"/>
          <p:cNvGrpSpPr/>
          <p:nvPr/>
        </p:nvGrpSpPr>
        <p:grpSpPr>
          <a:xfrm>
            <a:off x="21506760" y="36804600"/>
            <a:ext cx="8982720" cy="1465200"/>
            <a:chOff x="21506760" y="36804600"/>
            <a:chExt cx="8982720" cy="1465200"/>
          </a:xfrm>
        </p:grpSpPr>
        <p:pic>
          <p:nvPicPr>
            <p:cNvPr id="207" name="Picture 2" descr=""/>
            <p:cNvPicPr/>
            <p:nvPr/>
          </p:nvPicPr>
          <p:blipFill>
            <a:blip r:embed="rId4"/>
            <a:srcRect l="10010" t="0" r="12503" b="22932"/>
            <a:stretch/>
          </p:blipFill>
          <p:spPr>
            <a:xfrm>
              <a:off x="27812520" y="36804600"/>
              <a:ext cx="2676960" cy="129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icture 3" descr=""/>
            <p:cNvPicPr/>
            <p:nvPr/>
          </p:nvPicPr>
          <p:blipFill>
            <a:blip r:embed="rId5"/>
            <a:stretch/>
          </p:blipFill>
          <p:spPr>
            <a:xfrm>
              <a:off x="21792960" y="37566720"/>
              <a:ext cx="6324120" cy="70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TextBox 311"/>
            <p:cNvSpPr/>
            <p:nvPr/>
          </p:nvSpPr>
          <p:spPr>
            <a:xfrm>
              <a:off x="21506760" y="36804600"/>
              <a:ext cx="3972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585144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Funding provided by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TextBox 13"/>
          <p:cNvSpPr/>
          <p:nvPr/>
        </p:nvSpPr>
        <p:spPr>
          <a:xfrm>
            <a:off x="0" y="2590920"/>
            <a:ext cx="32918400" cy="51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851440"/>
              </a:tabLst>
            </a:pPr>
            <a:r>
              <a:rPr b="1" lang="en-US" sz="1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200" spc="-1" strike="noStrike">
                <a:solidFill>
                  <a:srgbClr val="000000"/>
                </a:solidFill>
                <a:latin typeface="Arial"/>
              </a:rPr>
              <a:t>BALEK LIGHTING          </a:t>
            </a:r>
            <a:r>
              <a:rPr b="1" lang="en-US" sz="8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tegrated Lighting System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51440"/>
              </a:tabLst>
            </a:pPr>
            <a:r>
              <a:rPr b="1" lang="en-US" sz="12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4"/>
          <p:cNvSpPr/>
          <p:nvPr/>
        </p:nvSpPr>
        <p:spPr>
          <a:xfrm>
            <a:off x="685800" y="4800600"/>
            <a:ext cx="3116592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Bao Ngoc To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Health Systems Institute and </a:t>
            </a: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Malek Bessaad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ollege of Architecture 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514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14"/>
          <p:cNvSpPr/>
          <p:nvPr/>
        </p:nvSpPr>
        <p:spPr>
          <a:xfrm>
            <a:off x="19354680" y="5638680"/>
            <a:ext cx="18669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Georgia Institute of Technology, Atlanta GA 30332 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23"/>
          <p:cNvSpPr/>
          <p:nvPr/>
        </p:nvSpPr>
        <p:spPr>
          <a:xfrm>
            <a:off x="10136160" y="9296280"/>
            <a:ext cx="10123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2. Solution &amp; Prototyp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Group 321"/>
          <p:cNvGrpSpPr/>
          <p:nvPr/>
        </p:nvGrpSpPr>
        <p:grpSpPr>
          <a:xfrm>
            <a:off x="20421720" y="11201400"/>
            <a:ext cx="11048760" cy="16528320"/>
            <a:chOff x="20421720" y="11201400"/>
            <a:chExt cx="11048760" cy="16528320"/>
          </a:xfrm>
        </p:grpSpPr>
        <p:grpSp>
          <p:nvGrpSpPr>
            <p:cNvPr id="215" name="Group 312"/>
            <p:cNvGrpSpPr/>
            <p:nvPr/>
          </p:nvGrpSpPr>
          <p:grpSpPr>
            <a:xfrm>
              <a:off x="20421720" y="11201400"/>
              <a:ext cx="11048760" cy="16513560"/>
              <a:chOff x="20421720" y="11201400"/>
              <a:chExt cx="11048760" cy="16513560"/>
            </a:xfrm>
          </p:grpSpPr>
          <p:cxnSp>
            <p:nvCxnSpPr>
              <p:cNvPr id="216" name="Straight Arrow Connector 634"/>
              <p:cNvCxnSpPr/>
              <p:nvPr/>
            </p:nvCxnSpPr>
            <p:spPr>
              <a:xfrm flipH="1">
                <a:off x="30708360" y="12804840"/>
                <a:ext cx="3600" cy="2464560"/>
              </a:xfrm>
              <a:prstGeom prst="straightConnector1">
                <a:avLst/>
              </a:prstGeom>
              <a:ln w="324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</p:cxnSp>
          <p:grpSp>
            <p:nvGrpSpPr>
              <p:cNvPr id="217" name="Group 132"/>
              <p:cNvGrpSpPr/>
              <p:nvPr/>
            </p:nvGrpSpPr>
            <p:grpSpPr>
              <a:xfrm>
                <a:off x="20423160" y="12803040"/>
                <a:ext cx="9527040" cy="14908680"/>
                <a:chOff x="20423160" y="12803040"/>
                <a:chExt cx="9527040" cy="14908680"/>
              </a:xfrm>
            </p:grpSpPr>
            <p:sp>
              <p:nvSpPr>
                <p:cNvPr id="218" name="Rectangle 659"/>
                <p:cNvSpPr/>
                <p:nvPr/>
              </p:nvSpPr>
              <p:spPr>
                <a:xfrm>
                  <a:off x="22599360" y="20286720"/>
                  <a:ext cx="5173200" cy="7425000"/>
                </a:xfrm>
                <a:prstGeom prst="rect">
                  <a:avLst/>
                </a:prstGeom>
                <a:solidFill>
                  <a:srgbClr val="ffffcc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5851440"/>
                    </a:tabLst>
                  </a:pPr>
                  <a:endParaRPr b="0" lang="en-US" sz="1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Rectangle 660"/>
                <p:cNvSpPr/>
                <p:nvPr/>
              </p:nvSpPr>
              <p:spPr>
                <a:xfrm>
                  <a:off x="22599360" y="15298560"/>
                  <a:ext cx="5173200" cy="4872240"/>
                </a:xfrm>
                <a:prstGeom prst="rect">
                  <a:avLst/>
                </a:prstGeom>
                <a:solidFill>
                  <a:srgbClr val="ffffcc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5851440"/>
                    </a:tabLst>
                  </a:pPr>
                  <a:endParaRPr b="0" lang="en-US" sz="1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Rectangle 661"/>
                <p:cNvSpPr/>
                <p:nvPr/>
              </p:nvSpPr>
              <p:spPr>
                <a:xfrm>
                  <a:off x="22599360" y="12803040"/>
                  <a:ext cx="5173200" cy="2379600"/>
                </a:xfrm>
                <a:prstGeom prst="rect">
                  <a:avLst/>
                </a:prstGeom>
                <a:solidFill>
                  <a:srgbClr val="ffffcc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5851440"/>
                    </a:tabLst>
                  </a:pPr>
                  <a:endParaRPr b="0" lang="en-US" sz="1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1" name="Group 9"/>
                <p:cNvGrpSpPr/>
                <p:nvPr/>
              </p:nvGrpSpPr>
              <p:grpSpPr>
                <a:xfrm>
                  <a:off x="24464520" y="13216680"/>
                  <a:ext cx="1532160" cy="1501200"/>
                  <a:chOff x="24464520" y="13216680"/>
                  <a:chExt cx="1532160" cy="1501200"/>
                </a:xfrm>
              </p:grpSpPr>
              <p:sp>
                <p:nvSpPr>
                  <p:cNvPr id="222" name="Oval 6"/>
                  <p:cNvSpPr/>
                  <p:nvPr/>
                </p:nvSpPr>
                <p:spPr>
                  <a:xfrm>
                    <a:off x="24464520" y="13216680"/>
                    <a:ext cx="1532160" cy="15012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385d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5851440"/>
                      </a:tabLst>
                    </a:pPr>
                    <a:endParaRPr b="0" lang="en-US" sz="11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Oval 7"/>
                  <p:cNvSpPr/>
                  <p:nvPr/>
                </p:nvSpPr>
                <p:spPr>
                  <a:xfrm>
                    <a:off x="24583320" y="13332600"/>
                    <a:ext cx="1290960" cy="1269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385d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5851440"/>
                      </a:tabLst>
                    </a:pPr>
                    <a:endParaRPr b="0" lang="en-US" sz="11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4" name="Group 10"/>
                <p:cNvGrpSpPr/>
                <p:nvPr/>
              </p:nvGrpSpPr>
              <p:grpSpPr>
                <a:xfrm>
                  <a:off x="24464520" y="15703560"/>
                  <a:ext cx="1532160" cy="1508760"/>
                  <a:chOff x="24464520" y="15703560"/>
                  <a:chExt cx="1532160" cy="1508760"/>
                </a:xfrm>
              </p:grpSpPr>
              <p:sp>
                <p:nvSpPr>
                  <p:cNvPr id="225" name="Oval 11"/>
                  <p:cNvSpPr/>
                  <p:nvPr/>
                </p:nvSpPr>
                <p:spPr>
                  <a:xfrm>
                    <a:off x="24464520" y="15703560"/>
                    <a:ext cx="1532160" cy="15087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385d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5851440"/>
                      </a:tabLst>
                    </a:pPr>
                    <a:endParaRPr b="0" lang="en-US" sz="11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Oval 12"/>
                  <p:cNvSpPr/>
                  <p:nvPr/>
                </p:nvSpPr>
                <p:spPr>
                  <a:xfrm>
                    <a:off x="24583320" y="15819120"/>
                    <a:ext cx="1290960" cy="1277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385d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5851440"/>
                      </a:tabLst>
                    </a:pPr>
                    <a:endParaRPr b="0" lang="en-US" sz="11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7" name="Group 13"/>
                <p:cNvGrpSpPr/>
                <p:nvPr/>
              </p:nvGrpSpPr>
              <p:grpSpPr>
                <a:xfrm>
                  <a:off x="24464520" y="18024480"/>
                  <a:ext cx="1532160" cy="1510560"/>
                  <a:chOff x="24464520" y="18024480"/>
                  <a:chExt cx="1532160" cy="1510560"/>
                </a:xfrm>
              </p:grpSpPr>
              <p:sp>
                <p:nvSpPr>
                  <p:cNvPr id="228" name="Oval 14"/>
                  <p:cNvSpPr/>
                  <p:nvPr/>
                </p:nvSpPr>
                <p:spPr>
                  <a:xfrm>
                    <a:off x="24464520" y="18024480"/>
                    <a:ext cx="1532160" cy="1510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385d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5851440"/>
                      </a:tabLst>
                    </a:pPr>
                    <a:endParaRPr b="0" lang="en-US" sz="11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Oval 15"/>
                  <p:cNvSpPr/>
                  <p:nvPr/>
                </p:nvSpPr>
                <p:spPr>
                  <a:xfrm>
                    <a:off x="24583320" y="18140400"/>
                    <a:ext cx="1290960" cy="12787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385d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5851440"/>
                      </a:tabLst>
                    </a:pPr>
                    <a:endParaRPr b="0" lang="en-US" sz="11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0" name="Group 16"/>
                <p:cNvGrpSpPr/>
                <p:nvPr/>
              </p:nvGrpSpPr>
              <p:grpSpPr>
                <a:xfrm>
                  <a:off x="24464520" y="20754360"/>
                  <a:ext cx="1532160" cy="1505880"/>
                  <a:chOff x="24464520" y="20754360"/>
                  <a:chExt cx="1532160" cy="1505880"/>
                </a:xfrm>
              </p:grpSpPr>
              <p:sp>
                <p:nvSpPr>
                  <p:cNvPr id="231" name="Oval 742"/>
                  <p:cNvSpPr/>
                  <p:nvPr/>
                </p:nvSpPr>
                <p:spPr>
                  <a:xfrm>
                    <a:off x="24464520" y="20754360"/>
                    <a:ext cx="1532160" cy="1505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385d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5851440"/>
                      </a:tabLst>
                    </a:pPr>
                    <a:endParaRPr b="0" lang="en-US" sz="11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Oval 743"/>
                  <p:cNvSpPr/>
                  <p:nvPr/>
                </p:nvSpPr>
                <p:spPr>
                  <a:xfrm>
                    <a:off x="24583320" y="20869920"/>
                    <a:ext cx="1290960" cy="12726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385d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5851440"/>
                      </a:tabLst>
                    </a:pPr>
                    <a:endParaRPr b="0" lang="en-US" sz="11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3" name="Group 19"/>
                <p:cNvGrpSpPr/>
                <p:nvPr/>
              </p:nvGrpSpPr>
              <p:grpSpPr>
                <a:xfrm>
                  <a:off x="24464520" y="23128200"/>
                  <a:ext cx="1532160" cy="1508760"/>
                  <a:chOff x="24464520" y="23128200"/>
                  <a:chExt cx="1532160" cy="1508760"/>
                </a:xfrm>
              </p:grpSpPr>
              <p:sp>
                <p:nvSpPr>
                  <p:cNvPr id="234" name="Oval 740"/>
                  <p:cNvSpPr/>
                  <p:nvPr/>
                </p:nvSpPr>
                <p:spPr>
                  <a:xfrm>
                    <a:off x="24464520" y="23128200"/>
                    <a:ext cx="1532160" cy="15087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385d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5851440"/>
                      </a:tabLst>
                    </a:pPr>
                    <a:endParaRPr b="0" lang="en-US" sz="11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Oval 21"/>
                  <p:cNvSpPr/>
                  <p:nvPr/>
                </p:nvSpPr>
                <p:spPr>
                  <a:xfrm>
                    <a:off x="24583320" y="23244120"/>
                    <a:ext cx="1290960" cy="1276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385d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5851440"/>
                      </a:tabLst>
                    </a:pPr>
                    <a:endParaRPr b="0" lang="en-US" sz="11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6" name="Group 22"/>
                <p:cNvGrpSpPr/>
                <p:nvPr/>
              </p:nvGrpSpPr>
              <p:grpSpPr>
                <a:xfrm>
                  <a:off x="24464520" y="25565040"/>
                  <a:ext cx="1532160" cy="1507320"/>
                  <a:chOff x="24464520" y="25565040"/>
                  <a:chExt cx="1532160" cy="1507320"/>
                </a:xfrm>
              </p:grpSpPr>
              <p:sp>
                <p:nvSpPr>
                  <p:cNvPr id="237" name="Oval 23"/>
                  <p:cNvSpPr/>
                  <p:nvPr/>
                </p:nvSpPr>
                <p:spPr>
                  <a:xfrm>
                    <a:off x="24464520" y="25565040"/>
                    <a:ext cx="1532160" cy="1507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385d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5851440"/>
                      </a:tabLst>
                    </a:pPr>
                    <a:endParaRPr b="0" lang="en-US" sz="11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Oval 24"/>
                  <p:cNvSpPr/>
                  <p:nvPr/>
                </p:nvSpPr>
                <p:spPr>
                  <a:xfrm>
                    <a:off x="24583320" y="25680960"/>
                    <a:ext cx="1290960" cy="1275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385d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5851440"/>
                      </a:tabLst>
                    </a:pPr>
                    <a:endParaRPr b="0" lang="en-US" sz="11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Rounded Rectangle 668"/>
                <p:cNvSpPr/>
                <p:nvPr/>
              </p:nvSpPr>
              <p:spPr>
                <a:xfrm>
                  <a:off x="20423160" y="12803040"/>
                  <a:ext cx="2058480" cy="14908680"/>
                </a:xfrm>
                <a:custGeom>
                  <a:avLst/>
                  <a:gdLst>
                    <a:gd name="textAreaLeft" fmla="*/ 100440 w 2058480"/>
                    <a:gd name="textAreaRight" fmla="*/ 1958040 w 2058480"/>
                    <a:gd name="textAreaTop" fmla="*/ 100440 h 14908680"/>
                    <a:gd name="textAreaBottom" fmla="*/ 14808240 h 14908680"/>
                  </a:gdLst>
                  <a:ahLst/>
                  <a:rect l="textAreaLeft" t="textAreaTop" r="textAreaRight" b="textAreaBottom"/>
                  <a:pathLst>
                    <a:path w="21600" h="156416">
                      <a:moveTo>
                        <a:pt x="3600" y="0"/>
                      </a:moveTo>
                      <a:arcTo wR="3600" hR="3600" stAng="16200000" swAng="-5400000"/>
                      <a:lnTo>
                        <a:pt x="0" y="152816"/>
                      </a:lnTo>
                      <a:arcTo wR="3600" hR="3600" stAng="10800000" swAng="-5400000"/>
                      <a:lnTo>
                        <a:pt x="18000" y="15641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dbeef4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5851440"/>
                    </a:tabLst>
                  </a:pPr>
                  <a:endParaRPr b="0" lang="en-US" sz="1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Rounded Rectangle 669"/>
                <p:cNvSpPr/>
                <p:nvPr/>
              </p:nvSpPr>
              <p:spPr>
                <a:xfrm>
                  <a:off x="27888480" y="12803040"/>
                  <a:ext cx="2061720" cy="14908680"/>
                </a:xfrm>
                <a:custGeom>
                  <a:avLst/>
                  <a:gdLst>
                    <a:gd name="textAreaLeft" fmla="*/ 100440 w 2061720"/>
                    <a:gd name="textAreaRight" fmla="*/ 1961280 w 2061720"/>
                    <a:gd name="textAreaTop" fmla="*/ 100440 h 14908680"/>
                    <a:gd name="textAreaBottom" fmla="*/ 14808240 h 14908680"/>
                  </a:gdLst>
                  <a:ahLst/>
                  <a:rect l="textAreaLeft" t="textAreaTop" r="textAreaRight" b="textAreaBottom"/>
                  <a:pathLst>
                    <a:path w="21600" h="156170">
                      <a:moveTo>
                        <a:pt x="3600" y="0"/>
                      </a:moveTo>
                      <a:arcTo wR="3600" hR="3600" stAng="16200000" swAng="-5400000"/>
                      <a:lnTo>
                        <a:pt x="0" y="152570"/>
                      </a:lnTo>
                      <a:arcTo wR="3600" hR="3600" stAng="10800000" swAng="-5400000"/>
                      <a:lnTo>
                        <a:pt x="18000" y="15617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dbeef4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5851440"/>
                    </a:tabLst>
                  </a:pPr>
                  <a:endParaRPr b="0" lang="en-US" sz="1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Rounded Rectangle 670"/>
                <p:cNvSpPr/>
                <p:nvPr/>
              </p:nvSpPr>
              <p:spPr>
                <a:xfrm>
                  <a:off x="27244080" y="15355800"/>
                  <a:ext cx="291960" cy="4699080"/>
                </a:xfrm>
                <a:custGeom>
                  <a:avLst/>
                  <a:gdLst>
                    <a:gd name="textAreaLeft" fmla="*/ 14040 w 291960"/>
                    <a:gd name="textAreaRight" fmla="*/ 277920 w 291960"/>
                    <a:gd name="textAreaTop" fmla="*/ 14040 h 4699080"/>
                    <a:gd name="textAreaBottom" fmla="*/ 4685040 h 4699080"/>
                  </a:gdLst>
                  <a:ahLst/>
                  <a:rect l="textAreaLeft" t="textAreaTop" r="textAreaRight" b="textAreaBottom"/>
                  <a:pathLst>
                    <a:path w="21600" h="347249">
                      <a:moveTo>
                        <a:pt x="3600" y="0"/>
                      </a:moveTo>
                      <a:arcTo wR="3600" hR="3600" stAng="16200000" swAng="-5400000"/>
                      <a:lnTo>
                        <a:pt x="0" y="343649"/>
                      </a:lnTo>
                      <a:arcTo wR="3600" hR="3600" stAng="10800000" swAng="-5400000"/>
                      <a:lnTo>
                        <a:pt x="18000" y="347249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5851440"/>
                    </a:tabLst>
                  </a:pPr>
                  <a:endParaRPr b="0" lang="en-US" sz="1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Rounded Rectangle 671"/>
                <p:cNvSpPr/>
                <p:nvPr/>
              </p:nvSpPr>
              <p:spPr>
                <a:xfrm>
                  <a:off x="22834080" y="15355800"/>
                  <a:ext cx="293400" cy="4699080"/>
                </a:xfrm>
                <a:custGeom>
                  <a:avLst/>
                  <a:gdLst>
                    <a:gd name="textAreaLeft" fmla="*/ 14040 w 293400"/>
                    <a:gd name="textAreaRight" fmla="*/ 279360 w 293400"/>
                    <a:gd name="textAreaTop" fmla="*/ 14040 h 4699080"/>
                    <a:gd name="textAreaBottom" fmla="*/ 4685040 h 4699080"/>
                  </a:gdLst>
                  <a:ahLst/>
                  <a:rect l="textAreaLeft" t="textAreaTop" r="textAreaRight" b="textAreaBottom"/>
                  <a:pathLst>
                    <a:path w="21600" h="345547">
                      <a:moveTo>
                        <a:pt x="3600" y="0"/>
                      </a:moveTo>
                      <a:arcTo wR="3600" hR="3600" stAng="16200000" swAng="-5400000"/>
                      <a:lnTo>
                        <a:pt x="0" y="341947"/>
                      </a:lnTo>
                      <a:arcTo wR="3600" hR="3600" stAng="10800000" swAng="-5400000"/>
                      <a:lnTo>
                        <a:pt x="18000" y="34554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5851440"/>
                    </a:tabLst>
                  </a:pPr>
                  <a:endParaRPr b="0" lang="en-US" sz="1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Rounded Rectangle 672"/>
                <p:cNvSpPr/>
                <p:nvPr/>
              </p:nvSpPr>
              <p:spPr>
                <a:xfrm>
                  <a:off x="27244080" y="21679200"/>
                  <a:ext cx="291960" cy="4699080"/>
                </a:xfrm>
                <a:custGeom>
                  <a:avLst/>
                  <a:gdLst>
                    <a:gd name="textAreaLeft" fmla="*/ 14040 w 291960"/>
                    <a:gd name="textAreaRight" fmla="*/ 277920 w 291960"/>
                    <a:gd name="textAreaTop" fmla="*/ 14040 h 4699080"/>
                    <a:gd name="textAreaBottom" fmla="*/ 4685040 h 4699080"/>
                  </a:gdLst>
                  <a:ahLst/>
                  <a:rect l="textAreaLeft" t="textAreaTop" r="textAreaRight" b="textAreaBottom"/>
                  <a:pathLst>
                    <a:path w="21600" h="347249">
                      <a:moveTo>
                        <a:pt x="3600" y="0"/>
                      </a:moveTo>
                      <a:arcTo wR="3600" hR="3600" stAng="16200000" swAng="-5400000"/>
                      <a:lnTo>
                        <a:pt x="0" y="343649"/>
                      </a:lnTo>
                      <a:arcTo wR="3600" hR="3600" stAng="10800000" swAng="-5400000"/>
                      <a:lnTo>
                        <a:pt x="18000" y="347249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5851440"/>
                    </a:tabLst>
                  </a:pPr>
                  <a:endParaRPr b="0" lang="en-US" sz="1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Rounded Rectangle 673"/>
                <p:cNvSpPr/>
                <p:nvPr/>
              </p:nvSpPr>
              <p:spPr>
                <a:xfrm>
                  <a:off x="22834080" y="21679200"/>
                  <a:ext cx="293400" cy="4699080"/>
                </a:xfrm>
                <a:custGeom>
                  <a:avLst/>
                  <a:gdLst>
                    <a:gd name="textAreaLeft" fmla="*/ 14040 w 293400"/>
                    <a:gd name="textAreaRight" fmla="*/ 279360 w 293400"/>
                    <a:gd name="textAreaTop" fmla="*/ 14040 h 4699080"/>
                    <a:gd name="textAreaBottom" fmla="*/ 4685040 h 4699080"/>
                  </a:gdLst>
                  <a:ahLst/>
                  <a:rect l="textAreaLeft" t="textAreaTop" r="textAreaRight" b="textAreaBottom"/>
                  <a:pathLst>
                    <a:path w="21600" h="345547">
                      <a:moveTo>
                        <a:pt x="3600" y="0"/>
                      </a:moveTo>
                      <a:arcTo wR="3600" hR="3600" stAng="16200000" swAng="-5400000"/>
                      <a:lnTo>
                        <a:pt x="0" y="341947"/>
                      </a:lnTo>
                      <a:arcTo wR="3600" hR="3600" stAng="10800000" swAng="-5400000"/>
                      <a:lnTo>
                        <a:pt x="18000" y="34554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5851440"/>
                    </a:tabLst>
                  </a:pPr>
                  <a:endParaRPr b="0" lang="en-US" sz="1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Rectangle 674"/>
                <p:cNvSpPr/>
                <p:nvPr/>
              </p:nvSpPr>
              <p:spPr>
                <a:xfrm>
                  <a:off x="20423160" y="20170800"/>
                  <a:ext cx="2058480" cy="115560"/>
                </a:xfrm>
                <a:prstGeom prst="rect">
                  <a:avLst/>
                </a:prstGeom>
                <a:noFill/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5851440"/>
                    </a:tabLst>
                  </a:pPr>
                  <a:endParaRPr b="0" lang="en-US" sz="1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675"/>
                <p:cNvSpPr/>
                <p:nvPr/>
              </p:nvSpPr>
              <p:spPr>
                <a:xfrm>
                  <a:off x="27888480" y="20170800"/>
                  <a:ext cx="2061720" cy="115560"/>
                </a:xfrm>
                <a:prstGeom prst="rect">
                  <a:avLst/>
                </a:prstGeom>
                <a:noFill/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5851440"/>
                    </a:tabLst>
                  </a:pPr>
                  <a:endParaRPr b="0" lang="en-US" sz="1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Straight Connector 676"/>
                <p:cNvSpPr/>
                <p:nvPr/>
              </p:nvSpPr>
              <p:spPr>
                <a:xfrm>
                  <a:off x="21453120" y="27710280"/>
                  <a:ext cx="7470000" cy="1440"/>
                </a:xfrm>
                <a:prstGeom prst="line">
                  <a:avLst/>
                </a:prstGeom>
                <a:ln w="9360">
                  <a:solidFill>
                    <a:srgbClr val="558ed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Straight Connector 677"/>
                <p:cNvSpPr/>
                <p:nvPr/>
              </p:nvSpPr>
              <p:spPr>
                <a:xfrm flipV="1">
                  <a:off x="21453120" y="12803040"/>
                  <a:ext cx="7470000" cy="2880"/>
                </a:xfrm>
                <a:prstGeom prst="line">
                  <a:avLst/>
                </a:prstGeom>
                <a:ln w="9360">
                  <a:solidFill>
                    <a:srgbClr val="558ed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9" name="Group 71"/>
                <p:cNvGrpSpPr/>
                <p:nvPr/>
              </p:nvGrpSpPr>
              <p:grpSpPr>
                <a:xfrm>
                  <a:off x="21304440" y="13849920"/>
                  <a:ext cx="177120" cy="5221080"/>
                  <a:chOff x="21304440" y="13849920"/>
                  <a:chExt cx="177120" cy="5221080"/>
                </a:xfrm>
              </p:grpSpPr>
              <p:grpSp>
                <p:nvGrpSpPr>
                  <p:cNvPr id="250" name="Group 57"/>
                  <p:cNvGrpSpPr/>
                  <p:nvPr/>
                </p:nvGrpSpPr>
                <p:grpSpPr>
                  <a:xfrm>
                    <a:off x="21304440" y="16578000"/>
                    <a:ext cx="177120" cy="2493000"/>
                    <a:chOff x="21304440" y="16578000"/>
                    <a:chExt cx="177120" cy="2493000"/>
                  </a:xfrm>
                </p:grpSpPr>
                <p:sp>
                  <p:nvSpPr>
                    <p:cNvPr id="251" name="Rounded Rectangle 732"/>
                    <p:cNvSpPr/>
                    <p:nvPr/>
                  </p:nvSpPr>
                  <p:spPr>
                    <a:xfrm>
                      <a:off x="21304440" y="16578000"/>
                      <a:ext cx="177120" cy="2493000"/>
                    </a:xfrm>
                    <a:custGeom>
                      <a:avLst/>
                      <a:gdLst>
                        <a:gd name="textAreaLeft" fmla="*/ 8640 w 177120"/>
                        <a:gd name="textAreaRight" fmla="*/ 168480 w 177120"/>
                        <a:gd name="textAreaTop" fmla="*/ 8640 h 2493000"/>
                        <a:gd name="textAreaBottom" fmla="*/ 2484360 h 2493000"/>
                      </a:gdLst>
                      <a:ahLst/>
                      <a:rect l="textAreaLeft" t="textAreaTop" r="textAreaRight" b="textAreaBottom"/>
                      <a:pathLst>
                        <a:path w="21600" h="303452">
                          <a:moveTo>
                            <a:pt x="3600" y="0"/>
                          </a:moveTo>
                          <a:arcTo wR="3600" hR="3600" stAng="16200000" swAng="-5400000"/>
                          <a:lnTo>
                            <a:pt x="0" y="299852"/>
                          </a:lnTo>
                          <a:arcTo wR="3600" hR="3600" stAng="10800000" swAng="-5400000"/>
                          <a:lnTo>
                            <a:pt x="18000" y="303452"/>
                          </a:lnTo>
                          <a:arcTo wR="3600" hR="3600" stAng="5400000" swAng="-5400000"/>
                          <a:lnTo>
                            <a:pt x="21600" y="3600"/>
                          </a:lnTo>
                          <a:arcTo wR="3600" hR="3600" stAng="0" swAng="-5400000"/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324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Oval 733"/>
                    <p:cNvSpPr/>
                    <p:nvPr/>
                  </p:nvSpPr>
                  <p:spPr>
                    <a:xfrm>
                      <a:off x="21304440" y="16752600"/>
                      <a:ext cx="177120" cy="17280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Oval 734"/>
                    <p:cNvSpPr/>
                    <p:nvPr/>
                  </p:nvSpPr>
                  <p:spPr>
                    <a:xfrm>
                      <a:off x="21304440" y="17735400"/>
                      <a:ext cx="177120" cy="17280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" name="Oval 735"/>
                    <p:cNvSpPr/>
                    <p:nvPr/>
                  </p:nvSpPr>
                  <p:spPr>
                    <a:xfrm>
                      <a:off x="21304440" y="18256320"/>
                      <a:ext cx="177120" cy="17460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Oval 736"/>
                    <p:cNvSpPr/>
                    <p:nvPr/>
                  </p:nvSpPr>
                  <p:spPr>
                    <a:xfrm>
                      <a:off x="21304440" y="18723240"/>
                      <a:ext cx="177120" cy="17460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Oval 737"/>
                    <p:cNvSpPr/>
                    <p:nvPr/>
                  </p:nvSpPr>
                  <p:spPr>
                    <a:xfrm>
                      <a:off x="21304440" y="17213040"/>
                      <a:ext cx="177120" cy="17460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Group 64"/>
                  <p:cNvGrpSpPr/>
                  <p:nvPr/>
                </p:nvGrpSpPr>
                <p:grpSpPr>
                  <a:xfrm>
                    <a:off x="21304440" y="13849920"/>
                    <a:ext cx="177120" cy="2496240"/>
                    <a:chOff x="21304440" y="13849920"/>
                    <a:chExt cx="177120" cy="2496240"/>
                  </a:xfrm>
                </p:grpSpPr>
                <p:sp>
                  <p:nvSpPr>
                    <p:cNvPr id="258" name="Rounded Rectangle 726"/>
                    <p:cNvSpPr/>
                    <p:nvPr/>
                  </p:nvSpPr>
                  <p:spPr>
                    <a:xfrm>
                      <a:off x="21304440" y="13849920"/>
                      <a:ext cx="177120" cy="2496240"/>
                    </a:xfrm>
                    <a:custGeom>
                      <a:avLst/>
                      <a:gdLst>
                        <a:gd name="textAreaLeft" fmla="*/ 8640 w 177120"/>
                        <a:gd name="textAreaRight" fmla="*/ 168480 w 177120"/>
                        <a:gd name="textAreaTop" fmla="*/ 8640 h 2496240"/>
                        <a:gd name="textAreaBottom" fmla="*/ 2487600 h 2496240"/>
                      </a:gdLst>
                      <a:ahLst/>
                      <a:rect l="textAreaLeft" t="textAreaTop" r="textAreaRight" b="textAreaBottom"/>
                      <a:pathLst>
                        <a:path w="21600" h="303846">
                          <a:moveTo>
                            <a:pt x="3600" y="0"/>
                          </a:moveTo>
                          <a:arcTo wR="3600" hR="3600" stAng="16200000" swAng="-5400000"/>
                          <a:lnTo>
                            <a:pt x="0" y="300246"/>
                          </a:lnTo>
                          <a:arcTo wR="3600" hR="3600" stAng="10800000" swAng="-5400000"/>
                          <a:lnTo>
                            <a:pt x="18000" y="303846"/>
                          </a:lnTo>
                          <a:arcTo wR="3600" hR="3600" stAng="5400000" swAng="-5400000"/>
                          <a:lnTo>
                            <a:pt x="21600" y="3600"/>
                          </a:lnTo>
                          <a:arcTo wR="3600" hR="3600" stAng="0" swAng="-5400000"/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324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Oval 727"/>
                    <p:cNvSpPr/>
                    <p:nvPr/>
                  </p:nvSpPr>
                  <p:spPr>
                    <a:xfrm>
                      <a:off x="21304440" y="14022720"/>
                      <a:ext cx="177120" cy="17604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Oval 67"/>
                    <p:cNvSpPr/>
                    <p:nvPr/>
                  </p:nvSpPr>
                  <p:spPr>
                    <a:xfrm>
                      <a:off x="21304440" y="15012360"/>
                      <a:ext cx="177120" cy="17280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" name="Oval 68"/>
                    <p:cNvSpPr/>
                    <p:nvPr/>
                  </p:nvSpPr>
                  <p:spPr>
                    <a:xfrm>
                      <a:off x="21304440" y="15533280"/>
                      <a:ext cx="177120" cy="17460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Oval 730"/>
                    <p:cNvSpPr/>
                    <p:nvPr/>
                  </p:nvSpPr>
                  <p:spPr>
                    <a:xfrm>
                      <a:off x="21304440" y="15996960"/>
                      <a:ext cx="177120" cy="17460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Oval 731"/>
                    <p:cNvSpPr/>
                    <p:nvPr/>
                  </p:nvSpPr>
                  <p:spPr>
                    <a:xfrm>
                      <a:off x="21304440" y="14489640"/>
                      <a:ext cx="177120" cy="17280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64" name="Group 72"/>
                <p:cNvGrpSpPr/>
                <p:nvPr/>
              </p:nvGrpSpPr>
              <p:grpSpPr>
                <a:xfrm>
                  <a:off x="28772640" y="13849920"/>
                  <a:ext cx="177120" cy="5221080"/>
                  <a:chOff x="28772640" y="13849920"/>
                  <a:chExt cx="177120" cy="5221080"/>
                </a:xfrm>
              </p:grpSpPr>
              <p:grpSp>
                <p:nvGrpSpPr>
                  <p:cNvPr id="265" name="Group 57"/>
                  <p:cNvGrpSpPr/>
                  <p:nvPr/>
                </p:nvGrpSpPr>
                <p:grpSpPr>
                  <a:xfrm>
                    <a:off x="28772640" y="16578000"/>
                    <a:ext cx="177120" cy="2493000"/>
                    <a:chOff x="28772640" y="16578000"/>
                    <a:chExt cx="177120" cy="2493000"/>
                  </a:xfrm>
                </p:grpSpPr>
                <p:sp>
                  <p:nvSpPr>
                    <p:cNvPr id="266" name="Rounded Rectangle 718"/>
                    <p:cNvSpPr/>
                    <p:nvPr/>
                  </p:nvSpPr>
                  <p:spPr>
                    <a:xfrm>
                      <a:off x="28772640" y="16578000"/>
                      <a:ext cx="177120" cy="2493000"/>
                    </a:xfrm>
                    <a:custGeom>
                      <a:avLst/>
                      <a:gdLst>
                        <a:gd name="textAreaLeft" fmla="*/ 8640 w 177120"/>
                        <a:gd name="textAreaRight" fmla="*/ 168480 w 177120"/>
                        <a:gd name="textAreaTop" fmla="*/ 8640 h 2493000"/>
                        <a:gd name="textAreaBottom" fmla="*/ 2484360 h 2493000"/>
                      </a:gdLst>
                      <a:ahLst/>
                      <a:rect l="textAreaLeft" t="textAreaTop" r="textAreaRight" b="textAreaBottom"/>
                      <a:pathLst>
                        <a:path w="21600" h="303452">
                          <a:moveTo>
                            <a:pt x="3600" y="0"/>
                          </a:moveTo>
                          <a:arcTo wR="3600" hR="3600" stAng="16200000" swAng="-5400000"/>
                          <a:lnTo>
                            <a:pt x="0" y="299852"/>
                          </a:lnTo>
                          <a:arcTo wR="3600" hR="3600" stAng="10800000" swAng="-5400000"/>
                          <a:lnTo>
                            <a:pt x="18000" y="303452"/>
                          </a:lnTo>
                          <a:arcTo wR="3600" hR="3600" stAng="5400000" swAng="-5400000"/>
                          <a:lnTo>
                            <a:pt x="21600" y="3600"/>
                          </a:lnTo>
                          <a:arcTo wR="3600" hR="3600" stAng="0" swAng="-5400000"/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324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7" name="Oval 719"/>
                    <p:cNvSpPr/>
                    <p:nvPr/>
                  </p:nvSpPr>
                  <p:spPr>
                    <a:xfrm>
                      <a:off x="28772640" y="16752600"/>
                      <a:ext cx="177120" cy="17280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Oval 720"/>
                    <p:cNvSpPr/>
                    <p:nvPr/>
                  </p:nvSpPr>
                  <p:spPr>
                    <a:xfrm>
                      <a:off x="28772640" y="17735400"/>
                      <a:ext cx="177120" cy="17280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Oval 721"/>
                    <p:cNvSpPr/>
                    <p:nvPr/>
                  </p:nvSpPr>
                  <p:spPr>
                    <a:xfrm>
                      <a:off x="28772640" y="18256320"/>
                      <a:ext cx="177120" cy="17460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Oval 722"/>
                    <p:cNvSpPr/>
                    <p:nvPr/>
                  </p:nvSpPr>
                  <p:spPr>
                    <a:xfrm>
                      <a:off x="28772640" y="18723240"/>
                      <a:ext cx="177120" cy="17460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Oval 723"/>
                    <p:cNvSpPr/>
                    <p:nvPr/>
                  </p:nvSpPr>
                  <p:spPr>
                    <a:xfrm>
                      <a:off x="28772640" y="17213040"/>
                      <a:ext cx="177120" cy="17460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Group 64"/>
                  <p:cNvGrpSpPr/>
                  <p:nvPr/>
                </p:nvGrpSpPr>
                <p:grpSpPr>
                  <a:xfrm>
                    <a:off x="28772640" y="13849920"/>
                    <a:ext cx="177120" cy="2496240"/>
                    <a:chOff x="28772640" y="13849920"/>
                    <a:chExt cx="177120" cy="2496240"/>
                  </a:xfrm>
                </p:grpSpPr>
                <p:sp>
                  <p:nvSpPr>
                    <p:cNvPr id="273" name="Rounded Rectangle 712"/>
                    <p:cNvSpPr/>
                    <p:nvPr/>
                  </p:nvSpPr>
                  <p:spPr>
                    <a:xfrm>
                      <a:off x="28772640" y="13849920"/>
                      <a:ext cx="177120" cy="2496240"/>
                    </a:xfrm>
                    <a:custGeom>
                      <a:avLst/>
                      <a:gdLst>
                        <a:gd name="textAreaLeft" fmla="*/ 8640 w 177120"/>
                        <a:gd name="textAreaRight" fmla="*/ 168480 w 177120"/>
                        <a:gd name="textAreaTop" fmla="*/ 8640 h 2496240"/>
                        <a:gd name="textAreaBottom" fmla="*/ 2487600 h 2496240"/>
                      </a:gdLst>
                      <a:ahLst/>
                      <a:rect l="textAreaLeft" t="textAreaTop" r="textAreaRight" b="textAreaBottom"/>
                      <a:pathLst>
                        <a:path w="21600" h="303846">
                          <a:moveTo>
                            <a:pt x="3600" y="0"/>
                          </a:moveTo>
                          <a:arcTo wR="3600" hR="3600" stAng="16200000" swAng="-5400000"/>
                          <a:lnTo>
                            <a:pt x="0" y="300246"/>
                          </a:lnTo>
                          <a:arcTo wR="3600" hR="3600" stAng="10800000" swAng="-5400000"/>
                          <a:lnTo>
                            <a:pt x="18000" y="303846"/>
                          </a:lnTo>
                          <a:arcTo wR="3600" hR="3600" stAng="5400000" swAng="-5400000"/>
                          <a:lnTo>
                            <a:pt x="21600" y="3600"/>
                          </a:lnTo>
                          <a:arcTo wR="3600" hR="3600" stAng="0" swAng="-5400000"/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324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Oval 713"/>
                    <p:cNvSpPr/>
                    <p:nvPr/>
                  </p:nvSpPr>
                  <p:spPr>
                    <a:xfrm>
                      <a:off x="28772640" y="14022720"/>
                      <a:ext cx="177120" cy="17604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Oval 714"/>
                    <p:cNvSpPr/>
                    <p:nvPr/>
                  </p:nvSpPr>
                  <p:spPr>
                    <a:xfrm>
                      <a:off x="28772640" y="15012360"/>
                      <a:ext cx="177120" cy="17280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6" name="Oval 715"/>
                    <p:cNvSpPr/>
                    <p:nvPr/>
                  </p:nvSpPr>
                  <p:spPr>
                    <a:xfrm>
                      <a:off x="28772640" y="15533280"/>
                      <a:ext cx="177120" cy="17460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Oval 716"/>
                    <p:cNvSpPr/>
                    <p:nvPr/>
                  </p:nvSpPr>
                  <p:spPr>
                    <a:xfrm>
                      <a:off x="28772640" y="15996960"/>
                      <a:ext cx="177120" cy="17460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Oval 717"/>
                    <p:cNvSpPr/>
                    <p:nvPr/>
                  </p:nvSpPr>
                  <p:spPr>
                    <a:xfrm>
                      <a:off x="28772640" y="14489640"/>
                      <a:ext cx="177120" cy="17280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79" name="Group 87"/>
                <p:cNvGrpSpPr/>
                <p:nvPr/>
              </p:nvGrpSpPr>
              <p:grpSpPr>
                <a:xfrm>
                  <a:off x="21304440" y="21391920"/>
                  <a:ext cx="177120" cy="5219640"/>
                  <a:chOff x="21304440" y="21391920"/>
                  <a:chExt cx="177120" cy="5219640"/>
                </a:xfrm>
              </p:grpSpPr>
              <p:grpSp>
                <p:nvGrpSpPr>
                  <p:cNvPr id="280" name="Group 57"/>
                  <p:cNvGrpSpPr/>
                  <p:nvPr/>
                </p:nvGrpSpPr>
                <p:grpSpPr>
                  <a:xfrm>
                    <a:off x="21304440" y="24115320"/>
                    <a:ext cx="177120" cy="2496240"/>
                    <a:chOff x="21304440" y="24115320"/>
                    <a:chExt cx="177120" cy="2496240"/>
                  </a:xfrm>
                </p:grpSpPr>
                <p:sp>
                  <p:nvSpPr>
                    <p:cNvPr id="281" name="Rounded Rectangle 704"/>
                    <p:cNvSpPr/>
                    <p:nvPr/>
                  </p:nvSpPr>
                  <p:spPr>
                    <a:xfrm>
                      <a:off x="21304440" y="24115320"/>
                      <a:ext cx="177120" cy="2496240"/>
                    </a:xfrm>
                    <a:custGeom>
                      <a:avLst/>
                      <a:gdLst>
                        <a:gd name="textAreaLeft" fmla="*/ 8640 w 177120"/>
                        <a:gd name="textAreaRight" fmla="*/ 168480 w 177120"/>
                        <a:gd name="textAreaTop" fmla="*/ 8640 h 2496240"/>
                        <a:gd name="textAreaBottom" fmla="*/ 2487600 h 2496240"/>
                      </a:gdLst>
                      <a:ahLst/>
                      <a:rect l="textAreaLeft" t="textAreaTop" r="textAreaRight" b="textAreaBottom"/>
                      <a:pathLst>
                        <a:path w="21600" h="303846">
                          <a:moveTo>
                            <a:pt x="3600" y="0"/>
                          </a:moveTo>
                          <a:arcTo wR="3600" hR="3600" stAng="16200000" swAng="-5400000"/>
                          <a:lnTo>
                            <a:pt x="0" y="300246"/>
                          </a:lnTo>
                          <a:arcTo wR="3600" hR="3600" stAng="10800000" swAng="-5400000"/>
                          <a:lnTo>
                            <a:pt x="18000" y="303846"/>
                          </a:lnTo>
                          <a:arcTo wR="3600" hR="3600" stAng="5400000" swAng="-5400000"/>
                          <a:lnTo>
                            <a:pt x="21600" y="3600"/>
                          </a:lnTo>
                          <a:arcTo wR="3600" hR="3600" stAng="0" swAng="-5400000"/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324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" name="Oval 705"/>
                    <p:cNvSpPr/>
                    <p:nvPr/>
                  </p:nvSpPr>
                  <p:spPr>
                    <a:xfrm>
                      <a:off x="21304440" y="24289920"/>
                      <a:ext cx="177120" cy="17280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Oval 706"/>
                    <p:cNvSpPr/>
                    <p:nvPr/>
                  </p:nvSpPr>
                  <p:spPr>
                    <a:xfrm>
                      <a:off x="21304440" y="25275960"/>
                      <a:ext cx="177120" cy="17280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" name="Oval 707"/>
                    <p:cNvSpPr/>
                    <p:nvPr/>
                  </p:nvSpPr>
                  <p:spPr>
                    <a:xfrm>
                      <a:off x="21304440" y="25796880"/>
                      <a:ext cx="177120" cy="17784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5" name="Oval 708"/>
                    <p:cNvSpPr/>
                    <p:nvPr/>
                  </p:nvSpPr>
                  <p:spPr>
                    <a:xfrm>
                      <a:off x="21304440" y="26263800"/>
                      <a:ext cx="177120" cy="17460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Oval 709"/>
                    <p:cNvSpPr/>
                    <p:nvPr/>
                  </p:nvSpPr>
                  <p:spPr>
                    <a:xfrm>
                      <a:off x="21304440" y="24753600"/>
                      <a:ext cx="177120" cy="17460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7" name="Group 64"/>
                  <p:cNvGrpSpPr/>
                  <p:nvPr/>
                </p:nvGrpSpPr>
                <p:grpSpPr>
                  <a:xfrm>
                    <a:off x="21304440" y="21391920"/>
                    <a:ext cx="177120" cy="2494800"/>
                    <a:chOff x="21304440" y="21391920"/>
                    <a:chExt cx="177120" cy="2494800"/>
                  </a:xfrm>
                </p:grpSpPr>
                <p:sp>
                  <p:nvSpPr>
                    <p:cNvPr id="288" name="Rounded Rectangle 698"/>
                    <p:cNvSpPr/>
                    <p:nvPr/>
                  </p:nvSpPr>
                  <p:spPr>
                    <a:xfrm>
                      <a:off x="21304440" y="21391920"/>
                      <a:ext cx="177120" cy="2494800"/>
                    </a:xfrm>
                    <a:custGeom>
                      <a:avLst/>
                      <a:gdLst>
                        <a:gd name="textAreaLeft" fmla="*/ 8640 w 177120"/>
                        <a:gd name="textAreaRight" fmla="*/ 168480 w 177120"/>
                        <a:gd name="textAreaTop" fmla="*/ 8640 h 2494800"/>
                        <a:gd name="textAreaBottom" fmla="*/ 2486160 h 2494800"/>
                      </a:gdLst>
                      <a:ahLst/>
                      <a:rect l="textAreaLeft" t="textAreaTop" r="textAreaRight" b="textAreaBottom"/>
                      <a:pathLst>
                        <a:path w="21600" h="303671">
                          <a:moveTo>
                            <a:pt x="3600" y="0"/>
                          </a:moveTo>
                          <a:arcTo wR="3600" hR="3600" stAng="16200000" swAng="-5400000"/>
                          <a:lnTo>
                            <a:pt x="0" y="300071"/>
                          </a:lnTo>
                          <a:arcTo wR="3600" hR="3600" stAng="10800000" swAng="-5400000"/>
                          <a:lnTo>
                            <a:pt x="18000" y="303671"/>
                          </a:lnTo>
                          <a:arcTo wR="3600" hR="3600" stAng="5400000" swAng="-5400000"/>
                          <a:lnTo>
                            <a:pt x="21600" y="3600"/>
                          </a:lnTo>
                          <a:arcTo wR="3600" hR="3600" stAng="0" swAng="-5400000"/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324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Oval 699"/>
                    <p:cNvSpPr/>
                    <p:nvPr/>
                  </p:nvSpPr>
                  <p:spPr>
                    <a:xfrm>
                      <a:off x="21304440" y="21564720"/>
                      <a:ext cx="177120" cy="17460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Oval 700"/>
                    <p:cNvSpPr/>
                    <p:nvPr/>
                  </p:nvSpPr>
                  <p:spPr>
                    <a:xfrm>
                      <a:off x="21304440" y="22552920"/>
                      <a:ext cx="177120" cy="17280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Oval 701"/>
                    <p:cNvSpPr/>
                    <p:nvPr/>
                  </p:nvSpPr>
                  <p:spPr>
                    <a:xfrm>
                      <a:off x="21304440" y="23073840"/>
                      <a:ext cx="177120" cy="17460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Oval 702"/>
                    <p:cNvSpPr/>
                    <p:nvPr/>
                  </p:nvSpPr>
                  <p:spPr>
                    <a:xfrm>
                      <a:off x="21304440" y="23538960"/>
                      <a:ext cx="177120" cy="17280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" name="Oval 703"/>
                    <p:cNvSpPr/>
                    <p:nvPr/>
                  </p:nvSpPr>
                  <p:spPr>
                    <a:xfrm>
                      <a:off x="21304440" y="22030200"/>
                      <a:ext cx="177120" cy="17460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94" name="Group 102"/>
                <p:cNvGrpSpPr/>
                <p:nvPr/>
              </p:nvGrpSpPr>
              <p:grpSpPr>
                <a:xfrm>
                  <a:off x="28772640" y="21391920"/>
                  <a:ext cx="177120" cy="5219640"/>
                  <a:chOff x="28772640" y="21391920"/>
                  <a:chExt cx="177120" cy="5219640"/>
                </a:xfrm>
              </p:grpSpPr>
              <p:grpSp>
                <p:nvGrpSpPr>
                  <p:cNvPr id="295" name="Group 57"/>
                  <p:cNvGrpSpPr/>
                  <p:nvPr/>
                </p:nvGrpSpPr>
                <p:grpSpPr>
                  <a:xfrm>
                    <a:off x="28772640" y="24115320"/>
                    <a:ext cx="177120" cy="2496240"/>
                    <a:chOff x="28772640" y="24115320"/>
                    <a:chExt cx="177120" cy="2496240"/>
                  </a:xfrm>
                </p:grpSpPr>
                <p:sp>
                  <p:nvSpPr>
                    <p:cNvPr id="296" name="Rounded Rectangle 690"/>
                    <p:cNvSpPr/>
                    <p:nvPr/>
                  </p:nvSpPr>
                  <p:spPr>
                    <a:xfrm>
                      <a:off x="28772640" y="24115320"/>
                      <a:ext cx="177120" cy="2496240"/>
                    </a:xfrm>
                    <a:custGeom>
                      <a:avLst/>
                      <a:gdLst>
                        <a:gd name="textAreaLeft" fmla="*/ 8640 w 177120"/>
                        <a:gd name="textAreaRight" fmla="*/ 168480 w 177120"/>
                        <a:gd name="textAreaTop" fmla="*/ 8640 h 2496240"/>
                        <a:gd name="textAreaBottom" fmla="*/ 2487600 h 2496240"/>
                      </a:gdLst>
                      <a:ahLst/>
                      <a:rect l="textAreaLeft" t="textAreaTop" r="textAreaRight" b="textAreaBottom"/>
                      <a:pathLst>
                        <a:path w="21600" h="303846">
                          <a:moveTo>
                            <a:pt x="3600" y="0"/>
                          </a:moveTo>
                          <a:arcTo wR="3600" hR="3600" stAng="16200000" swAng="-5400000"/>
                          <a:lnTo>
                            <a:pt x="0" y="300246"/>
                          </a:lnTo>
                          <a:arcTo wR="3600" hR="3600" stAng="10800000" swAng="-5400000"/>
                          <a:lnTo>
                            <a:pt x="18000" y="303846"/>
                          </a:lnTo>
                          <a:arcTo wR="3600" hR="3600" stAng="5400000" swAng="-5400000"/>
                          <a:lnTo>
                            <a:pt x="21600" y="3600"/>
                          </a:lnTo>
                          <a:arcTo wR="3600" hR="3600" stAng="0" swAng="-5400000"/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324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Oval 691"/>
                    <p:cNvSpPr/>
                    <p:nvPr/>
                  </p:nvSpPr>
                  <p:spPr>
                    <a:xfrm>
                      <a:off x="28772640" y="24289920"/>
                      <a:ext cx="177120" cy="17280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8" name="Oval 692"/>
                    <p:cNvSpPr/>
                    <p:nvPr/>
                  </p:nvSpPr>
                  <p:spPr>
                    <a:xfrm>
                      <a:off x="28772640" y="25275960"/>
                      <a:ext cx="177120" cy="17280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" name="Oval 693"/>
                    <p:cNvSpPr/>
                    <p:nvPr/>
                  </p:nvSpPr>
                  <p:spPr>
                    <a:xfrm>
                      <a:off x="28772640" y="25796880"/>
                      <a:ext cx="177120" cy="17784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Oval 694"/>
                    <p:cNvSpPr/>
                    <p:nvPr/>
                  </p:nvSpPr>
                  <p:spPr>
                    <a:xfrm>
                      <a:off x="28772640" y="26263800"/>
                      <a:ext cx="177120" cy="17460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" name="Oval 695"/>
                    <p:cNvSpPr/>
                    <p:nvPr/>
                  </p:nvSpPr>
                  <p:spPr>
                    <a:xfrm>
                      <a:off x="28772640" y="24753600"/>
                      <a:ext cx="177120" cy="17460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2" name="Group 64"/>
                  <p:cNvGrpSpPr/>
                  <p:nvPr/>
                </p:nvGrpSpPr>
                <p:grpSpPr>
                  <a:xfrm>
                    <a:off x="28772640" y="21391920"/>
                    <a:ext cx="177120" cy="2494800"/>
                    <a:chOff x="28772640" y="21391920"/>
                    <a:chExt cx="177120" cy="2494800"/>
                  </a:xfrm>
                </p:grpSpPr>
                <p:sp>
                  <p:nvSpPr>
                    <p:cNvPr id="303" name="Rounded Rectangle 684"/>
                    <p:cNvSpPr/>
                    <p:nvPr/>
                  </p:nvSpPr>
                  <p:spPr>
                    <a:xfrm>
                      <a:off x="28772640" y="21391920"/>
                      <a:ext cx="177120" cy="2494800"/>
                    </a:xfrm>
                    <a:custGeom>
                      <a:avLst/>
                      <a:gdLst>
                        <a:gd name="textAreaLeft" fmla="*/ 8640 w 177120"/>
                        <a:gd name="textAreaRight" fmla="*/ 168480 w 177120"/>
                        <a:gd name="textAreaTop" fmla="*/ 8640 h 2494800"/>
                        <a:gd name="textAreaBottom" fmla="*/ 2486160 h 2494800"/>
                      </a:gdLst>
                      <a:ahLst/>
                      <a:rect l="textAreaLeft" t="textAreaTop" r="textAreaRight" b="textAreaBottom"/>
                      <a:pathLst>
                        <a:path w="21600" h="303671">
                          <a:moveTo>
                            <a:pt x="3600" y="0"/>
                          </a:moveTo>
                          <a:arcTo wR="3600" hR="3600" stAng="16200000" swAng="-5400000"/>
                          <a:lnTo>
                            <a:pt x="0" y="300071"/>
                          </a:lnTo>
                          <a:arcTo wR="3600" hR="3600" stAng="10800000" swAng="-5400000"/>
                          <a:lnTo>
                            <a:pt x="18000" y="303671"/>
                          </a:lnTo>
                          <a:arcTo wR="3600" hR="3600" stAng="5400000" swAng="-5400000"/>
                          <a:lnTo>
                            <a:pt x="21600" y="3600"/>
                          </a:lnTo>
                          <a:arcTo wR="3600" hR="3600" stAng="0" swAng="-5400000"/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324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" name="Oval 685"/>
                    <p:cNvSpPr/>
                    <p:nvPr/>
                  </p:nvSpPr>
                  <p:spPr>
                    <a:xfrm>
                      <a:off x="28772640" y="21564720"/>
                      <a:ext cx="177120" cy="17460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" name="Oval 686"/>
                    <p:cNvSpPr/>
                    <p:nvPr/>
                  </p:nvSpPr>
                  <p:spPr>
                    <a:xfrm>
                      <a:off x="28772640" y="22552920"/>
                      <a:ext cx="177120" cy="17280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Oval 687"/>
                    <p:cNvSpPr/>
                    <p:nvPr/>
                  </p:nvSpPr>
                  <p:spPr>
                    <a:xfrm>
                      <a:off x="28772640" y="23073840"/>
                      <a:ext cx="177120" cy="17460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" name="Oval 688"/>
                    <p:cNvSpPr/>
                    <p:nvPr/>
                  </p:nvSpPr>
                  <p:spPr>
                    <a:xfrm>
                      <a:off x="28772640" y="23538960"/>
                      <a:ext cx="177120" cy="17280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8" name="Oval 689"/>
                    <p:cNvSpPr/>
                    <p:nvPr/>
                  </p:nvSpPr>
                  <p:spPr>
                    <a:xfrm>
                      <a:off x="28772640" y="22030200"/>
                      <a:ext cx="177120" cy="174600"/>
                    </a:xfrm>
                    <a:prstGeom prst="ellipse">
                      <a:avLst/>
                    </a:prstGeom>
                    <a:solidFill>
                      <a:srgbClr val="4f81bd"/>
                    </a:solidFill>
                    <a:ln w="25560">
                      <a:solidFill>
                        <a:srgbClr val="385d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51440"/>
                        </a:tabLst>
                      </a:pP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309" name="Straight Connector 636"/>
              <p:cNvSpPr/>
              <p:nvPr/>
            </p:nvSpPr>
            <p:spPr>
              <a:xfrm>
                <a:off x="27659520" y="27713520"/>
                <a:ext cx="24141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Straight Connector 637"/>
              <p:cNvSpPr/>
              <p:nvPr/>
            </p:nvSpPr>
            <p:spPr>
              <a:xfrm>
                <a:off x="27915120" y="20198160"/>
                <a:ext cx="21585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Straight Connector 638"/>
              <p:cNvSpPr/>
              <p:nvPr/>
            </p:nvSpPr>
            <p:spPr>
              <a:xfrm>
                <a:off x="27659520" y="12804840"/>
                <a:ext cx="22870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Straight Connector 639"/>
              <p:cNvSpPr/>
              <p:nvPr/>
            </p:nvSpPr>
            <p:spPr>
              <a:xfrm>
                <a:off x="27788040" y="15268680"/>
                <a:ext cx="21585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13" name="Straight Arrow Connector 640"/>
              <p:cNvCxnSpPr/>
              <p:nvPr/>
            </p:nvCxnSpPr>
            <p:spPr>
              <a:xfrm flipH="1">
                <a:off x="30708360" y="15268680"/>
                <a:ext cx="3600" cy="4929840"/>
              </a:xfrm>
              <a:prstGeom prst="straightConnector1">
                <a:avLst/>
              </a:prstGeom>
              <a:ln w="324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</p:cxnSp>
          <p:cxnSp>
            <p:nvCxnSpPr>
              <p:cNvPr id="314" name="Straight Arrow Connector 641"/>
              <p:cNvCxnSpPr/>
              <p:nvPr/>
            </p:nvCxnSpPr>
            <p:spPr>
              <a:xfrm flipH="1">
                <a:off x="30708360" y="20198160"/>
                <a:ext cx="3600" cy="7516080"/>
              </a:xfrm>
              <a:prstGeom prst="straightConnector1">
                <a:avLst/>
              </a:prstGeom>
              <a:ln w="324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</p:cxnSp>
          <p:sp>
            <p:nvSpPr>
              <p:cNvPr id="315" name="Straight Connector 642"/>
              <p:cNvSpPr/>
              <p:nvPr/>
            </p:nvSpPr>
            <p:spPr>
              <a:xfrm>
                <a:off x="29946960" y="12804840"/>
                <a:ext cx="13950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Straight Connector 643"/>
              <p:cNvSpPr/>
              <p:nvPr/>
            </p:nvSpPr>
            <p:spPr>
              <a:xfrm>
                <a:off x="30073680" y="20198160"/>
                <a:ext cx="13968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Straight Connector 644"/>
              <p:cNvSpPr/>
              <p:nvPr/>
            </p:nvSpPr>
            <p:spPr>
              <a:xfrm>
                <a:off x="29946960" y="27713520"/>
                <a:ext cx="13950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Straight Connector 645"/>
              <p:cNvSpPr/>
              <p:nvPr/>
            </p:nvSpPr>
            <p:spPr>
              <a:xfrm>
                <a:off x="29946960" y="15268680"/>
                <a:ext cx="13950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Straight Connector 646"/>
              <p:cNvSpPr/>
              <p:nvPr/>
            </p:nvSpPr>
            <p:spPr>
              <a:xfrm flipV="1">
                <a:off x="22580280" y="11572560"/>
                <a:ext cx="2880" cy="1231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Straight Connector 647"/>
              <p:cNvSpPr/>
              <p:nvPr/>
            </p:nvSpPr>
            <p:spPr>
              <a:xfrm flipV="1">
                <a:off x="27788040" y="11572560"/>
                <a:ext cx="1440" cy="1231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21" name="Straight Arrow Connector 648"/>
              <p:cNvCxnSpPr/>
              <p:nvPr/>
            </p:nvCxnSpPr>
            <p:spPr>
              <a:xfrm>
                <a:off x="22580280" y="12065040"/>
                <a:ext cx="5208480" cy="2160"/>
              </a:xfrm>
              <a:prstGeom prst="straightConnector1">
                <a:avLst/>
              </a:prstGeom>
              <a:ln w="324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</p:cxnSp>
          <p:sp>
            <p:nvSpPr>
              <p:cNvPr id="322" name="Straight Connector 649"/>
              <p:cNvSpPr/>
              <p:nvPr/>
            </p:nvSpPr>
            <p:spPr>
              <a:xfrm flipV="1">
                <a:off x="29946960" y="11571120"/>
                <a:ext cx="1440" cy="1233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23" name="Straight Arrow Connector 650"/>
              <p:cNvCxnSpPr/>
              <p:nvPr/>
            </p:nvCxnSpPr>
            <p:spPr>
              <a:xfrm>
                <a:off x="27788040" y="12065040"/>
                <a:ext cx="2159280" cy="2160"/>
              </a:xfrm>
              <a:prstGeom prst="straightConnector1">
                <a:avLst/>
              </a:prstGeom>
              <a:ln w="324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</p:cxnSp>
          <p:sp>
            <p:nvSpPr>
              <p:cNvPr id="324" name="TextBox 346"/>
              <p:cNvSpPr/>
              <p:nvPr/>
            </p:nvSpPr>
            <p:spPr>
              <a:xfrm>
                <a:off x="24853320" y="11201400"/>
                <a:ext cx="520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Straight Connector 652"/>
              <p:cNvSpPr/>
              <p:nvPr/>
            </p:nvSpPr>
            <p:spPr>
              <a:xfrm flipV="1">
                <a:off x="20421720" y="11572560"/>
                <a:ext cx="2880" cy="1231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26" name="Straight Arrow Connector 653"/>
              <p:cNvCxnSpPr/>
              <p:nvPr/>
            </p:nvCxnSpPr>
            <p:spPr>
              <a:xfrm>
                <a:off x="20424240" y="12065040"/>
                <a:ext cx="2156040" cy="2160"/>
              </a:xfrm>
              <a:prstGeom prst="straightConnector1">
                <a:avLst/>
              </a:prstGeom>
              <a:ln w="324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</p:cxnSp>
          <p:sp>
            <p:nvSpPr>
              <p:cNvPr id="327" name="TextBox 349"/>
              <p:cNvSpPr/>
              <p:nvPr/>
            </p:nvSpPr>
            <p:spPr>
              <a:xfrm>
                <a:off x="21169440" y="11201400"/>
                <a:ext cx="5893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9”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TextBox 350"/>
              <p:cNvSpPr/>
              <p:nvPr/>
            </p:nvSpPr>
            <p:spPr>
              <a:xfrm>
                <a:off x="28533960" y="11201400"/>
                <a:ext cx="5893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85144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9”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Box 351"/>
              <p:cNvSpPr/>
              <p:nvPr/>
            </p:nvSpPr>
            <p:spPr>
              <a:xfrm>
                <a:off x="30949200" y="17238600"/>
                <a:ext cx="51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585144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2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TextBox 352"/>
              <p:cNvSpPr/>
              <p:nvPr/>
            </p:nvSpPr>
            <p:spPr>
              <a:xfrm>
                <a:off x="30949200" y="13665600"/>
                <a:ext cx="51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585144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1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TextBox 353"/>
              <p:cNvSpPr/>
              <p:nvPr/>
            </p:nvSpPr>
            <p:spPr>
              <a:xfrm>
                <a:off x="30949200" y="23892120"/>
                <a:ext cx="51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585144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3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2" name="TextBox 326"/>
            <p:cNvSpPr/>
            <p:nvPr/>
          </p:nvSpPr>
          <p:spPr>
            <a:xfrm>
              <a:off x="24577560" y="14691960"/>
              <a:ext cx="1395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585144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Panel 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Box 327"/>
            <p:cNvSpPr/>
            <p:nvPr/>
          </p:nvSpPr>
          <p:spPr>
            <a:xfrm>
              <a:off x="24583320" y="19692360"/>
              <a:ext cx="1395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585144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Panel B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TextBox 328"/>
            <p:cNvSpPr/>
            <p:nvPr/>
          </p:nvSpPr>
          <p:spPr>
            <a:xfrm>
              <a:off x="24519960" y="27239760"/>
              <a:ext cx="15022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585144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Panel C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Rectangle 1040"/>
          <p:cNvSpPr/>
          <p:nvPr/>
        </p:nvSpPr>
        <p:spPr>
          <a:xfrm>
            <a:off x="10210680" y="10744200"/>
            <a:ext cx="21488400" cy="27965520"/>
          </a:xfrm>
          <a:prstGeom prst="rect">
            <a:avLst/>
          </a:prstGeom>
          <a:noFill/>
          <a:ln w="7632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5144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3" descr="P:\Malek\ER---RENDU\3D\2gris.jpg"/>
          <p:cNvPicPr/>
          <p:nvPr/>
        </p:nvPicPr>
        <p:blipFill>
          <a:blip r:embed="rId6"/>
          <a:srcRect l="0" t="0" r="3387" b="0"/>
          <a:stretch/>
        </p:blipFill>
        <p:spPr>
          <a:xfrm>
            <a:off x="1523880" y="31851720"/>
            <a:ext cx="8382240" cy="693396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1043" descr="P:\Malek\ER---RENDU\3D\1rouge.jpg"/>
          <p:cNvPicPr/>
          <p:nvPr/>
        </p:nvPicPr>
        <p:blipFill>
          <a:blip r:embed="rId7"/>
          <a:srcRect l="9751" t="0" r="8500" b="0"/>
          <a:stretch/>
        </p:blipFill>
        <p:spPr>
          <a:xfrm>
            <a:off x="1523880" y="24003000"/>
            <a:ext cx="8305920" cy="7620120"/>
          </a:xfrm>
          <a:prstGeom prst="rect">
            <a:avLst/>
          </a:prstGeom>
          <a:ln w="0">
            <a:noFill/>
          </a:ln>
        </p:spPr>
      </p:pic>
      <p:sp>
        <p:nvSpPr>
          <p:cNvPr id="338" name="TextBox 300"/>
          <p:cNvSpPr/>
          <p:nvPr/>
        </p:nvSpPr>
        <p:spPr>
          <a:xfrm>
            <a:off x="1477800" y="23164920"/>
            <a:ext cx="531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5144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omputer Simu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6T04:13:12Z</dcterms:created>
  <dc:creator>user</dc:creator>
  <dc:description/>
  <dc:language>en-US</dc:language>
  <cp:lastModifiedBy>bao</cp:lastModifiedBy>
  <dcterms:modified xsi:type="dcterms:W3CDTF">2008-11-26T14:44:08Z</dcterms:modified>
  <cp:revision>33</cp:revision>
  <dc:subject/>
  <dc:title>Slide 1</dc:title>
</cp:coreProperties>
</file>